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03B-C75E-45B2-893F-DAD00A45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1B1-702E-45B0-91C5-5D95502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336-8EA9-4708-8D57-67103BF1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BDC-CA92-4C20-B9F3-7A4E2536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B2C-05F8-4FD7-B418-E231BDAD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6904-AF52-40FB-9548-9ED06A7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29D2-8A2A-45C3-8789-CF54319D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B0A0-7CC6-4D79-BBAB-2DB5DFA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63B-3893-4ADC-ABD5-81EB47E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41D-B1EB-4331-8A18-209AA9DC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9D8-A151-49F2-BE82-3BD5703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A94-F0DD-42AA-8C19-DA74F04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2E34-E0DD-44E6-BA3D-4FEB397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0C8E-6767-4D1A-A7F2-5577985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A30-B71D-4D1B-A6C1-F5E359F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288F-639A-4AA1-AFA2-C0B00A88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FD7C-8E5F-4DE1-946C-9090CDF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7DE-C8D4-4591-943F-84FF50D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D8C-C6F6-4E55-B4AB-29EF119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02D-7427-4AC9-A2BA-68F19C9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D51-F0D7-4714-AB95-92D3498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89D-44E8-4DF8-9D7E-ACE518F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427-4220-42C3-AB84-B944A36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059-0721-4A19-987A-51064A7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0AE-78C1-40AB-B565-AE5D6D9141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74C-0E69-41A9-B38B-0D155D1D99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1.3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Transformation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fts, reflections, size changes, etc which occur to an origina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working with an original function f(x)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formation Ru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+ c = vertical shif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– c = vertical shif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 – c) = horizontal shift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 + c) = horizontal shift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(x) = reflection over the x-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-x) = reflection over the y-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F(x) when c&gt;1 = vertical stretch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(narrower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·F(x) when 0&lt;c&lt;1 = vertical shrink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wi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scribe the transformation from 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(x) = (x –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(x) = (x +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(x) = -4 –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(x) = 0.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589040"/>
            <a:ext cx="1009800" cy="430200"/>
          </a:xfrm>
          <a:custGeom>
            <a:avLst/>
            <a:gdLst/>
            <a:ahLst/>
            <a:rect l="l" t="t" r="r" b="b"/>
            <a:pathLst>
              <a:path w="2804" h="1192">
                <a:moveTo>
                  <a:pt x="11038" y="4415"/>
                </a:moveTo>
                <a:cubicBezTo>
                  <a:pt x="11052" y="4451"/>
                  <a:pt x="11061" y="4472"/>
                  <a:pt x="11063" y="4514"/>
                </a:cubicBezTo>
                <a:cubicBezTo>
                  <a:pt x="11068" y="4593"/>
                  <a:pt x="11088" y="4654"/>
                  <a:pt x="11088" y="4738"/>
                </a:cubicBezTo>
                <a:cubicBezTo>
                  <a:pt x="11088" y="4978"/>
                  <a:pt x="11088" y="5217"/>
                  <a:pt x="11088" y="5457"/>
                </a:cubicBezTo>
                <a:cubicBezTo>
                  <a:pt x="11088" y="5424"/>
                  <a:pt x="11102" y="5437"/>
                  <a:pt x="11088" y="5407"/>
                </a:cubicBezTo>
                <a:cubicBezTo>
                  <a:pt x="11066" y="5359"/>
                  <a:pt x="11067" y="5310"/>
                  <a:pt x="11038" y="5259"/>
                </a:cubicBezTo>
                <a:cubicBezTo>
                  <a:pt x="11010" y="5210"/>
                  <a:pt x="11008" y="5179"/>
                  <a:pt x="10964" y="5135"/>
                </a:cubicBezTo>
                <a:cubicBezTo>
                  <a:pt x="10923" y="5094"/>
                  <a:pt x="10897" y="5071"/>
                  <a:pt x="10840" y="5060"/>
                </a:cubicBezTo>
                <a:cubicBezTo>
                  <a:pt x="10790" y="5050"/>
                  <a:pt x="10754" y="5065"/>
                  <a:pt x="10716" y="5085"/>
                </a:cubicBezTo>
                <a:cubicBezTo>
                  <a:pt x="10672" y="5109"/>
                  <a:pt x="10620" y="5140"/>
                  <a:pt x="10592" y="5184"/>
                </a:cubicBezTo>
                <a:cubicBezTo>
                  <a:pt x="10562" y="5232"/>
                  <a:pt x="10526" y="5311"/>
                  <a:pt x="10517" y="5358"/>
                </a:cubicBezTo>
                <a:cubicBezTo>
                  <a:pt x="10509" y="5398"/>
                  <a:pt x="10526" y="5476"/>
                  <a:pt x="10542" y="5507"/>
                </a:cubicBezTo>
                <a:cubicBezTo>
                  <a:pt x="10559" y="5540"/>
                  <a:pt x="10635" y="5550"/>
                  <a:pt x="10666" y="5556"/>
                </a:cubicBezTo>
                <a:cubicBezTo>
                  <a:pt x="10755" y="5573"/>
                  <a:pt x="10884" y="5564"/>
                  <a:pt x="10964" y="5531"/>
                </a:cubicBezTo>
                <a:cubicBezTo>
                  <a:pt x="10980" y="5523"/>
                  <a:pt x="10997" y="5515"/>
                  <a:pt x="11013" y="5507"/>
                </a:cubicBezTo>
              </a:path>
              <a:path w="2804" h="1192">
                <a:moveTo>
                  <a:pt x="11361" y="5383"/>
                </a:moveTo>
                <a:cubicBezTo>
                  <a:pt x="11344" y="5471"/>
                  <a:pt x="11319" y="5516"/>
                  <a:pt x="11361" y="5581"/>
                </a:cubicBezTo>
                <a:cubicBezTo>
                  <a:pt x="11394" y="5633"/>
                  <a:pt x="11447" y="5601"/>
                  <a:pt x="11485" y="5581"/>
                </a:cubicBezTo>
                <a:cubicBezTo>
                  <a:pt x="11522" y="5561"/>
                  <a:pt x="11606" y="5513"/>
                  <a:pt x="11633" y="5482"/>
                </a:cubicBezTo>
                <a:cubicBezTo>
                  <a:pt x="11677" y="5430"/>
                  <a:pt x="11683" y="5371"/>
                  <a:pt x="11683" y="5308"/>
                </a:cubicBezTo>
                <a:cubicBezTo>
                  <a:pt x="11683" y="5259"/>
                  <a:pt x="11688" y="5209"/>
                  <a:pt x="11633" y="5184"/>
                </a:cubicBezTo>
                <a:cubicBezTo>
                  <a:pt x="11589" y="5164"/>
                  <a:pt x="11547" y="5158"/>
                  <a:pt x="11509" y="5184"/>
                </a:cubicBezTo>
                <a:cubicBezTo>
                  <a:pt x="11474" y="5208"/>
                  <a:pt x="11440" y="5212"/>
                  <a:pt x="11435" y="5259"/>
                </a:cubicBezTo>
                <a:cubicBezTo>
                  <a:pt x="11426" y="5339"/>
                  <a:pt x="11464" y="5326"/>
                  <a:pt x="11534" y="5333"/>
                </a:cubicBezTo>
              </a:path>
              <a:path w="2804" h="1192">
                <a:moveTo>
                  <a:pt x="11857" y="5358"/>
                </a:moveTo>
                <a:cubicBezTo>
                  <a:pt x="11875" y="5427"/>
                  <a:pt x="11875" y="5510"/>
                  <a:pt x="11956" y="5531"/>
                </a:cubicBezTo>
                <a:cubicBezTo>
                  <a:pt x="12008" y="5545"/>
                  <a:pt x="12063" y="5525"/>
                  <a:pt x="12105" y="5507"/>
                </a:cubicBezTo>
                <a:cubicBezTo>
                  <a:pt x="12160" y="5483"/>
                  <a:pt x="12209" y="5442"/>
                  <a:pt x="12229" y="5383"/>
                </a:cubicBezTo>
                <a:cubicBezTo>
                  <a:pt x="12247" y="5330"/>
                  <a:pt x="12229" y="5410"/>
                  <a:pt x="12229" y="5432"/>
                </a:cubicBezTo>
                <a:cubicBezTo>
                  <a:pt x="12229" y="5486"/>
                  <a:pt x="12232" y="5488"/>
                  <a:pt x="12278" y="5507"/>
                </a:cubicBezTo>
                <a:cubicBezTo>
                  <a:pt x="12355" y="5539"/>
                  <a:pt x="12358" y="5520"/>
                  <a:pt x="12427" y="5507"/>
                </a:cubicBezTo>
                <a:cubicBezTo>
                  <a:pt x="12498" y="5493"/>
                  <a:pt x="12507" y="5485"/>
                  <a:pt x="12526" y="5407"/>
                </a:cubicBezTo>
                <a:cubicBezTo>
                  <a:pt x="12541" y="5347"/>
                  <a:pt x="12516" y="5321"/>
                  <a:pt x="12477" y="5283"/>
                </a:cubicBezTo>
                <a:cubicBezTo>
                  <a:pt x="12444" y="5251"/>
                  <a:pt x="12409" y="5230"/>
                  <a:pt x="12378" y="5209"/>
                </a:cubicBezTo>
                <a:cubicBezTo>
                  <a:pt x="12370" y="5201"/>
                  <a:pt x="12361" y="5192"/>
                  <a:pt x="12353" y="5184"/>
                </a:cubicBezTo>
              </a:path>
              <a:path w="2804" h="1192">
                <a:moveTo>
                  <a:pt x="12725" y="5432"/>
                </a:moveTo>
                <a:cubicBezTo>
                  <a:pt x="12725" y="5466"/>
                  <a:pt x="12725" y="5618"/>
                  <a:pt x="12725" y="5507"/>
                </a:cubicBezTo>
                <a:cubicBezTo>
                  <a:pt x="12725" y="5436"/>
                  <a:pt x="12686" y="5378"/>
                  <a:pt x="12700" y="5308"/>
                </a:cubicBezTo>
                <a:cubicBezTo>
                  <a:pt x="12708" y="5265"/>
                  <a:pt x="12726" y="5180"/>
                  <a:pt x="12774" y="5159"/>
                </a:cubicBezTo>
                <a:cubicBezTo>
                  <a:pt x="12828" y="5135"/>
                  <a:pt x="12892" y="5140"/>
                  <a:pt x="12948" y="5159"/>
                </a:cubicBezTo>
                <a:cubicBezTo>
                  <a:pt x="13015" y="5181"/>
                  <a:pt x="13089" y="5251"/>
                  <a:pt x="13122" y="5308"/>
                </a:cubicBezTo>
                <a:cubicBezTo>
                  <a:pt x="13159" y="5371"/>
                  <a:pt x="13196" y="5433"/>
                  <a:pt x="13196" y="5507"/>
                </a:cubicBezTo>
                <a:cubicBezTo>
                  <a:pt x="13196" y="5515"/>
                  <a:pt x="13196" y="5523"/>
                  <a:pt x="13196" y="5531"/>
                </a:cubicBezTo>
                <a:cubicBezTo>
                  <a:pt x="13253" y="5517"/>
                  <a:pt x="13272" y="5499"/>
                  <a:pt x="13320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9040" y="1724040"/>
            <a:ext cx="27000" cy="276120"/>
          </a:xfrm>
          <a:custGeom>
            <a:avLst/>
            <a:gdLst/>
            <a:ahLst/>
            <a:rect l="l" t="t" r="r" b="b"/>
            <a:pathLst>
              <a:path w="76" h="770">
                <a:moveTo>
                  <a:pt x="14213" y="4787"/>
                </a:moveTo>
                <a:cubicBezTo>
                  <a:pt x="14185" y="4911"/>
                  <a:pt x="14163" y="5009"/>
                  <a:pt x="14163" y="5135"/>
                </a:cubicBezTo>
                <a:cubicBezTo>
                  <a:pt x="14163" y="5249"/>
                  <a:pt x="14161" y="5351"/>
                  <a:pt x="14188" y="5457"/>
                </a:cubicBezTo>
                <a:cubicBezTo>
                  <a:pt x="14190" y="5465"/>
                  <a:pt x="14221" y="5562"/>
                  <a:pt x="14238" y="5556"/>
                </a:cubicBezTo>
                <a:cubicBezTo>
                  <a:pt x="14238" y="5548"/>
                  <a:pt x="14238" y="5539"/>
                  <a:pt x="14238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7120" y="2303640"/>
            <a:ext cx="919080" cy="545760"/>
          </a:xfrm>
          <a:custGeom>
            <a:avLst/>
            <a:gdLst/>
            <a:ahLst/>
            <a:rect l="l" t="t" r="r" b="b"/>
            <a:pathLst>
              <a:path w="2556" h="1514">
                <a:moveTo>
                  <a:pt x="10765" y="7045"/>
                </a:moveTo>
                <a:cubicBezTo>
                  <a:pt x="10765" y="7111"/>
                  <a:pt x="10776" y="7283"/>
                  <a:pt x="10765" y="7268"/>
                </a:cubicBezTo>
                <a:cubicBezTo>
                  <a:pt x="10731" y="7221"/>
                  <a:pt x="10740" y="7179"/>
                  <a:pt x="10740" y="7119"/>
                </a:cubicBezTo>
                <a:cubicBezTo>
                  <a:pt x="10740" y="7039"/>
                  <a:pt x="10730" y="6962"/>
                  <a:pt x="10765" y="6896"/>
                </a:cubicBezTo>
                <a:cubicBezTo>
                  <a:pt x="10796" y="6838"/>
                  <a:pt x="10818" y="6794"/>
                  <a:pt x="10864" y="6747"/>
                </a:cubicBezTo>
                <a:cubicBezTo>
                  <a:pt x="10893" y="6717"/>
                  <a:pt x="10945" y="6700"/>
                  <a:pt x="10988" y="6697"/>
                </a:cubicBezTo>
                <a:cubicBezTo>
                  <a:pt x="11054" y="6693"/>
                  <a:pt x="11062" y="6705"/>
                  <a:pt x="11112" y="6722"/>
                </a:cubicBezTo>
                <a:cubicBezTo>
                  <a:pt x="11137" y="6722"/>
                  <a:pt x="11145" y="6722"/>
                  <a:pt x="11162" y="6722"/>
                </a:cubicBezTo>
              </a:path>
              <a:path w="2556" h="1514">
                <a:moveTo>
                  <a:pt x="11410" y="6846"/>
                </a:moveTo>
                <a:cubicBezTo>
                  <a:pt x="11406" y="6899"/>
                  <a:pt x="11367" y="7015"/>
                  <a:pt x="11385" y="7069"/>
                </a:cubicBezTo>
                <a:cubicBezTo>
                  <a:pt x="11402" y="7120"/>
                  <a:pt x="11430" y="7170"/>
                  <a:pt x="11435" y="7218"/>
                </a:cubicBezTo>
                <a:cubicBezTo>
                  <a:pt x="11443" y="7288"/>
                  <a:pt x="11437" y="7176"/>
                  <a:pt x="11435" y="7169"/>
                </a:cubicBezTo>
                <a:cubicBezTo>
                  <a:pt x="11427" y="7152"/>
                  <a:pt x="11418" y="7136"/>
                  <a:pt x="11410" y="7119"/>
                </a:cubicBezTo>
              </a:path>
              <a:path w="2556" h="1514">
                <a:moveTo>
                  <a:pt x="11361" y="6573"/>
                </a:moveTo>
                <a:cubicBezTo>
                  <a:pt x="11381" y="6533"/>
                  <a:pt x="11379" y="6517"/>
                  <a:pt x="11410" y="6524"/>
                </a:cubicBezTo>
              </a:path>
              <a:path w="2556" h="1514">
                <a:moveTo>
                  <a:pt x="12030" y="7020"/>
                </a:moveTo>
                <a:cubicBezTo>
                  <a:pt x="12042" y="6966"/>
                  <a:pt x="12054" y="6857"/>
                  <a:pt x="12030" y="6796"/>
                </a:cubicBezTo>
                <a:cubicBezTo>
                  <a:pt x="12019" y="6769"/>
                  <a:pt x="11972" y="6724"/>
                  <a:pt x="11956" y="6722"/>
                </a:cubicBezTo>
                <a:cubicBezTo>
                  <a:pt x="11923" y="6718"/>
                  <a:pt x="11852" y="6768"/>
                  <a:pt x="11832" y="6796"/>
                </a:cubicBezTo>
                <a:cubicBezTo>
                  <a:pt x="11769" y="6883"/>
                  <a:pt x="11761" y="6923"/>
                  <a:pt x="11733" y="7020"/>
                </a:cubicBezTo>
                <a:cubicBezTo>
                  <a:pt x="11707" y="7111"/>
                  <a:pt x="11709" y="7112"/>
                  <a:pt x="11757" y="7193"/>
                </a:cubicBezTo>
                <a:cubicBezTo>
                  <a:pt x="11806" y="7276"/>
                  <a:pt x="11846" y="7291"/>
                  <a:pt x="11956" y="7268"/>
                </a:cubicBezTo>
                <a:cubicBezTo>
                  <a:pt x="12014" y="7256"/>
                  <a:pt x="12053" y="7189"/>
                  <a:pt x="12080" y="7144"/>
                </a:cubicBezTo>
                <a:cubicBezTo>
                  <a:pt x="12114" y="7087"/>
                  <a:pt x="12105" y="7033"/>
                  <a:pt x="12105" y="6970"/>
                </a:cubicBezTo>
                <a:cubicBezTo>
                  <a:pt x="12105" y="6962"/>
                  <a:pt x="12105" y="6953"/>
                  <a:pt x="12105" y="6945"/>
                </a:cubicBezTo>
                <a:cubicBezTo>
                  <a:pt x="12037" y="6962"/>
                  <a:pt x="12055" y="7004"/>
                  <a:pt x="12055" y="7069"/>
                </a:cubicBezTo>
                <a:cubicBezTo>
                  <a:pt x="12055" y="7200"/>
                  <a:pt x="12067" y="7313"/>
                  <a:pt x="12080" y="7441"/>
                </a:cubicBezTo>
                <a:cubicBezTo>
                  <a:pt x="12091" y="7546"/>
                  <a:pt x="12087" y="7642"/>
                  <a:pt x="12080" y="7739"/>
                </a:cubicBezTo>
                <a:cubicBezTo>
                  <a:pt x="12073" y="7837"/>
                  <a:pt x="12062" y="7839"/>
                  <a:pt x="11981" y="7888"/>
                </a:cubicBezTo>
                <a:cubicBezTo>
                  <a:pt x="11895" y="7940"/>
                  <a:pt x="11836" y="7903"/>
                  <a:pt x="11757" y="7863"/>
                </a:cubicBezTo>
                <a:cubicBezTo>
                  <a:pt x="11695" y="7832"/>
                  <a:pt x="11624" y="7765"/>
                  <a:pt x="11633" y="7689"/>
                </a:cubicBezTo>
                <a:cubicBezTo>
                  <a:pt x="11662" y="7633"/>
                  <a:pt x="11673" y="7609"/>
                  <a:pt x="11683" y="7565"/>
                </a:cubicBezTo>
              </a:path>
              <a:path w="2556" h="1514">
                <a:moveTo>
                  <a:pt x="12278" y="6400"/>
                </a:moveTo>
                <a:cubicBezTo>
                  <a:pt x="12304" y="6527"/>
                  <a:pt x="12285" y="6645"/>
                  <a:pt x="12303" y="6772"/>
                </a:cubicBezTo>
                <a:cubicBezTo>
                  <a:pt x="12318" y="6879"/>
                  <a:pt x="12341" y="6988"/>
                  <a:pt x="12353" y="7094"/>
                </a:cubicBezTo>
                <a:cubicBezTo>
                  <a:pt x="12361" y="7169"/>
                  <a:pt x="12358" y="7207"/>
                  <a:pt x="12378" y="7268"/>
                </a:cubicBezTo>
                <a:cubicBezTo>
                  <a:pt x="12378" y="7276"/>
                  <a:pt x="12378" y="7285"/>
                  <a:pt x="12378" y="7293"/>
                </a:cubicBezTo>
                <a:cubicBezTo>
                  <a:pt x="12396" y="7287"/>
                  <a:pt x="12421" y="7246"/>
                  <a:pt x="12427" y="7218"/>
                </a:cubicBezTo>
                <a:cubicBezTo>
                  <a:pt x="12452" y="7102"/>
                  <a:pt x="12403" y="6987"/>
                  <a:pt x="12452" y="6871"/>
                </a:cubicBezTo>
                <a:cubicBezTo>
                  <a:pt x="12468" y="6834"/>
                  <a:pt x="12479" y="6811"/>
                  <a:pt x="12502" y="6796"/>
                </a:cubicBezTo>
                <a:cubicBezTo>
                  <a:pt x="12556" y="6796"/>
                  <a:pt x="12586" y="6808"/>
                  <a:pt x="12601" y="6871"/>
                </a:cubicBezTo>
                <a:cubicBezTo>
                  <a:pt x="12616" y="6935"/>
                  <a:pt x="12618" y="7030"/>
                  <a:pt x="12626" y="7094"/>
                </a:cubicBezTo>
                <a:cubicBezTo>
                  <a:pt x="12631" y="7134"/>
                  <a:pt x="12628" y="7219"/>
                  <a:pt x="12675" y="7243"/>
                </a:cubicBezTo>
                <a:cubicBezTo>
                  <a:pt x="12712" y="7262"/>
                  <a:pt x="12749" y="7233"/>
                  <a:pt x="12774" y="7218"/>
                </a:cubicBezTo>
                <a:cubicBezTo>
                  <a:pt x="12824" y="7193"/>
                  <a:pt x="12840" y="7185"/>
                  <a:pt x="12849" y="7144"/>
                </a:cubicBezTo>
              </a:path>
              <a:path w="2556" h="1514">
                <a:moveTo>
                  <a:pt x="12998" y="6424"/>
                </a:moveTo>
                <a:cubicBezTo>
                  <a:pt x="12967" y="6507"/>
                  <a:pt x="12973" y="6581"/>
                  <a:pt x="12973" y="6672"/>
                </a:cubicBezTo>
                <a:cubicBezTo>
                  <a:pt x="12973" y="6795"/>
                  <a:pt x="13001" y="6856"/>
                  <a:pt x="13022" y="6970"/>
                </a:cubicBezTo>
                <a:cubicBezTo>
                  <a:pt x="13032" y="7024"/>
                  <a:pt x="13044" y="7097"/>
                  <a:pt x="13072" y="7144"/>
                </a:cubicBezTo>
                <a:cubicBezTo>
                  <a:pt x="13087" y="7169"/>
                  <a:pt x="13097" y="7211"/>
                  <a:pt x="13097" y="7169"/>
                </a:cubicBezTo>
              </a:path>
              <a:path w="2556" h="1514">
                <a:moveTo>
                  <a:pt x="12824" y="6772"/>
                </a:moveTo>
                <a:cubicBezTo>
                  <a:pt x="12909" y="6761"/>
                  <a:pt x="12981" y="6747"/>
                  <a:pt x="13072" y="6747"/>
                </a:cubicBezTo>
                <a:cubicBezTo>
                  <a:pt x="13150" y="6747"/>
                  <a:pt x="13218" y="6729"/>
                  <a:pt x="13295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54760" y="2295360"/>
            <a:ext cx="27000" cy="276480"/>
          </a:xfrm>
          <a:custGeom>
            <a:avLst/>
            <a:gdLst/>
            <a:ahLst/>
            <a:rect l="l" t="t" r="r" b="b"/>
            <a:pathLst>
              <a:path w="76" h="770">
                <a:moveTo>
                  <a:pt x="14039" y="6375"/>
                </a:moveTo>
                <a:cubicBezTo>
                  <a:pt x="14056" y="6495"/>
                  <a:pt x="14042" y="6630"/>
                  <a:pt x="14064" y="6747"/>
                </a:cubicBezTo>
                <a:cubicBezTo>
                  <a:pt x="14076" y="6814"/>
                  <a:pt x="14070" y="6906"/>
                  <a:pt x="14089" y="6970"/>
                </a:cubicBezTo>
                <a:cubicBezTo>
                  <a:pt x="14108" y="7034"/>
                  <a:pt x="14114" y="7050"/>
                  <a:pt x="14114" y="7119"/>
                </a:cubicBezTo>
                <a:cubicBezTo>
                  <a:pt x="14114" y="7127"/>
                  <a:pt x="14114" y="7136"/>
                  <a:pt x="14114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43200" y="3027240"/>
            <a:ext cx="455760" cy="30348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10145" y="8533"/>
                </a:moveTo>
                <a:cubicBezTo>
                  <a:pt x="10121" y="8643"/>
                  <a:pt x="10127" y="8667"/>
                  <a:pt x="10145" y="8756"/>
                </a:cubicBezTo>
                <a:cubicBezTo>
                  <a:pt x="10163" y="8845"/>
                  <a:pt x="10166" y="8827"/>
                  <a:pt x="10244" y="8855"/>
                </a:cubicBezTo>
                <a:cubicBezTo>
                  <a:pt x="10310" y="8879"/>
                  <a:pt x="10331" y="8863"/>
                  <a:pt x="10393" y="8830"/>
                </a:cubicBezTo>
                <a:cubicBezTo>
                  <a:pt x="10454" y="8798"/>
                  <a:pt x="10507" y="8741"/>
                  <a:pt x="10542" y="8682"/>
                </a:cubicBezTo>
                <a:cubicBezTo>
                  <a:pt x="10574" y="8627"/>
                  <a:pt x="10570" y="8565"/>
                  <a:pt x="10592" y="8508"/>
                </a:cubicBezTo>
                <a:cubicBezTo>
                  <a:pt x="10599" y="8491"/>
                  <a:pt x="10648" y="8388"/>
                  <a:pt x="10616" y="8434"/>
                </a:cubicBezTo>
                <a:cubicBezTo>
                  <a:pt x="10586" y="8476"/>
                  <a:pt x="10592" y="8502"/>
                  <a:pt x="10592" y="8558"/>
                </a:cubicBezTo>
                <a:cubicBezTo>
                  <a:pt x="10592" y="8625"/>
                  <a:pt x="10626" y="8678"/>
                  <a:pt x="10666" y="8731"/>
                </a:cubicBezTo>
                <a:cubicBezTo>
                  <a:pt x="10698" y="8773"/>
                  <a:pt x="10738" y="8801"/>
                  <a:pt x="10790" y="8806"/>
                </a:cubicBezTo>
                <a:cubicBezTo>
                  <a:pt x="10815" y="8806"/>
                  <a:pt x="10823" y="8806"/>
                  <a:pt x="10840" y="8806"/>
                </a:cubicBezTo>
              </a:path>
              <a:path w="1266" h="844">
                <a:moveTo>
                  <a:pt x="11038" y="8458"/>
                </a:moveTo>
                <a:cubicBezTo>
                  <a:pt x="11038" y="8620"/>
                  <a:pt x="11045" y="8773"/>
                  <a:pt x="11063" y="8930"/>
                </a:cubicBezTo>
                <a:cubicBezTo>
                  <a:pt x="11074" y="9027"/>
                  <a:pt x="11064" y="9110"/>
                  <a:pt x="11088" y="9203"/>
                </a:cubicBezTo>
                <a:cubicBezTo>
                  <a:pt x="11100" y="9250"/>
                  <a:pt x="11088" y="9262"/>
                  <a:pt x="11088" y="9203"/>
                </a:cubicBezTo>
                <a:cubicBezTo>
                  <a:pt x="11088" y="9186"/>
                  <a:pt x="11088" y="9170"/>
                  <a:pt x="11088" y="9153"/>
                </a:cubicBezTo>
              </a:path>
              <a:path w="1266" h="844">
                <a:moveTo>
                  <a:pt x="11063" y="8558"/>
                </a:moveTo>
                <a:cubicBezTo>
                  <a:pt x="11096" y="8427"/>
                  <a:pt x="11067" y="8409"/>
                  <a:pt x="11187" y="8409"/>
                </a:cubicBezTo>
                <a:cubicBezTo>
                  <a:pt x="11261" y="8409"/>
                  <a:pt x="11318" y="8446"/>
                  <a:pt x="11361" y="8508"/>
                </a:cubicBezTo>
                <a:cubicBezTo>
                  <a:pt x="11397" y="8560"/>
                  <a:pt x="11400" y="8672"/>
                  <a:pt x="11385" y="8731"/>
                </a:cubicBezTo>
                <a:cubicBezTo>
                  <a:pt x="11371" y="8785"/>
                  <a:pt x="11309" y="8836"/>
                  <a:pt x="11261" y="8855"/>
                </a:cubicBezTo>
                <a:cubicBezTo>
                  <a:pt x="11246" y="8861"/>
                  <a:pt x="11133" y="8880"/>
                  <a:pt x="11137" y="8855"/>
                </a:cubicBezTo>
                <a:cubicBezTo>
                  <a:pt x="11145" y="8847"/>
                  <a:pt x="11154" y="8838"/>
                  <a:pt x="11162" y="88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3160" y="2874960"/>
            <a:ext cx="169920" cy="28728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12005" y="8186"/>
                </a:moveTo>
                <a:cubicBezTo>
                  <a:pt x="12005" y="8276"/>
                  <a:pt x="12000" y="8350"/>
                  <a:pt x="11981" y="8434"/>
                </a:cubicBezTo>
                <a:cubicBezTo>
                  <a:pt x="11972" y="8474"/>
                  <a:pt x="11994" y="8496"/>
                  <a:pt x="12030" y="8508"/>
                </a:cubicBezTo>
                <a:cubicBezTo>
                  <a:pt x="12104" y="8533"/>
                  <a:pt x="12223" y="8508"/>
                  <a:pt x="12303" y="8508"/>
                </a:cubicBezTo>
              </a:path>
              <a:path w="472" h="795">
                <a:moveTo>
                  <a:pt x="12452" y="7987"/>
                </a:moveTo>
                <a:cubicBezTo>
                  <a:pt x="12418" y="8077"/>
                  <a:pt x="12427" y="8162"/>
                  <a:pt x="12427" y="8260"/>
                </a:cubicBezTo>
                <a:cubicBezTo>
                  <a:pt x="12427" y="8434"/>
                  <a:pt x="12427" y="8607"/>
                  <a:pt x="12427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26000" y="3438360"/>
            <a:ext cx="1785960" cy="625680"/>
          </a:xfrm>
          <a:custGeom>
            <a:avLst/>
            <a:gdLst/>
            <a:ahLst/>
            <a:rect l="l" t="t" r="r" b="b"/>
            <a:pathLst>
              <a:path w="4962" h="1737">
                <a:moveTo>
                  <a:pt x="12849" y="9550"/>
                </a:moveTo>
                <a:cubicBezTo>
                  <a:pt x="12849" y="9670"/>
                  <a:pt x="12863" y="9781"/>
                  <a:pt x="12874" y="9897"/>
                </a:cubicBezTo>
                <a:cubicBezTo>
                  <a:pt x="12884" y="10002"/>
                  <a:pt x="12875" y="10607"/>
                  <a:pt x="12898" y="10592"/>
                </a:cubicBezTo>
              </a:path>
              <a:path w="4962" h="1737">
                <a:moveTo>
                  <a:pt x="13122" y="10319"/>
                </a:moveTo>
                <a:cubicBezTo>
                  <a:pt x="13207" y="10327"/>
                  <a:pt x="13242" y="10324"/>
                  <a:pt x="13320" y="10319"/>
                </a:cubicBezTo>
                <a:cubicBezTo>
                  <a:pt x="13369" y="10316"/>
                  <a:pt x="13407" y="10294"/>
                  <a:pt x="13444" y="10269"/>
                </a:cubicBezTo>
                <a:cubicBezTo>
                  <a:pt x="13467" y="10253"/>
                  <a:pt x="13484" y="10198"/>
                  <a:pt x="13469" y="10170"/>
                </a:cubicBezTo>
                <a:cubicBezTo>
                  <a:pt x="13445" y="10127"/>
                  <a:pt x="13413" y="10120"/>
                  <a:pt x="13370" y="10120"/>
                </a:cubicBezTo>
                <a:cubicBezTo>
                  <a:pt x="13305" y="10120"/>
                  <a:pt x="13274" y="10130"/>
                  <a:pt x="13221" y="10170"/>
                </a:cubicBezTo>
                <a:cubicBezTo>
                  <a:pt x="13172" y="10207"/>
                  <a:pt x="13111" y="10306"/>
                  <a:pt x="13097" y="10368"/>
                </a:cubicBezTo>
                <a:cubicBezTo>
                  <a:pt x="13082" y="10436"/>
                  <a:pt x="13108" y="10511"/>
                  <a:pt x="13146" y="10567"/>
                </a:cubicBezTo>
                <a:cubicBezTo>
                  <a:pt x="13184" y="10622"/>
                  <a:pt x="13262" y="10634"/>
                  <a:pt x="13320" y="10641"/>
                </a:cubicBezTo>
              </a:path>
              <a:path w="4962" h="1737">
                <a:moveTo>
                  <a:pt x="14139" y="9748"/>
                </a:moveTo>
                <a:cubicBezTo>
                  <a:pt x="14031" y="9716"/>
                  <a:pt x="14016" y="9722"/>
                  <a:pt x="13940" y="9823"/>
                </a:cubicBezTo>
                <a:cubicBezTo>
                  <a:pt x="13880" y="9902"/>
                  <a:pt x="13870" y="9998"/>
                  <a:pt x="13866" y="10096"/>
                </a:cubicBezTo>
                <a:cubicBezTo>
                  <a:pt x="13862" y="10196"/>
                  <a:pt x="13902" y="10293"/>
                  <a:pt x="13915" y="10393"/>
                </a:cubicBezTo>
                <a:cubicBezTo>
                  <a:pt x="13923" y="10459"/>
                  <a:pt x="13938" y="10557"/>
                  <a:pt x="13965" y="10616"/>
                </a:cubicBezTo>
                <a:cubicBezTo>
                  <a:pt x="13988" y="10639"/>
                  <a:pt x="13996" y="10643"/>
                  <a:pt x="13990" y="10666"/>
                </a:cubicBezTo>
              </a:path>
              <a:path w="4962" h="1737">
                <a:moveTo>
                  <a:pt x="13717" y="10319"/>
                </a:moveTo>
                <a:cubicBezTo>
                  <a:pt x="13793" y="10302"/>
                  <a:pt x="13856" y="10319"/>
                  <a:pt x="13940" y="10319"/>
                </a:cubicBezTo>
                <a:cubicBezTo>
                  <a:pt x="13965" y="10319"/>
                  <a:pt x="13990" y="10319"/>
                  <a:pt x="14015" y="10319"/>
                </a:cubicBezTo>
              </a:path>
              <a:path w="4962" h="1737">
                <a:moveTo>
                  <a:pt x="14536" y="9798"/>
                </a:moveTo>
                <a:cubicBezTo>
                  <a:pt x="14526" y="9894"/>
                  <a:pt x="14490" y="9976"/>
                  <a:pt x="14486" y="10071"/>
                </a:cubicBezTo>
                <a:cubicBezTo>
                  <a:pt x="14482" y="10177"/>
                  <a:pt x="14500" y="10267"/>
                  <a:pt x="14511" y="10368"/>
                </a:cubicBezTo>
                <a:cubicBezTo>
                  <a:pt x="14520" y="10447"/>
                  <a:pt x="14505" y="10542"/>
                  <a:pt x="14536" y="10616"/>
                </a:cubicBezTo>
                <a:cubicBezTo>
                  <a:pt x="14547" y="10643"/>
                  <a:pt x="14567" y="10667"/>
                  <a:pt x="14585" y="10691"/>
                </a:cubicBezTo>
              </a:path>
              <a:path w="4962" h="1737">
                <a:moveTo>
                  <a:pt x="14362" y="10319"/>
                </a:moveTo>
                <a:cubicBezTo>
                  <a:pt x="14506" y="10319"/>
                  <a:pt x="14646" y="10329"/>
                  <a:pt x="14784" y="10294"/>
                </a:cubicBezTo>
              </a:path>
              <a:path w="4962" h="1737">
                <a:moveTo>
                  <a:pt x="15205" y="9798"/>
                </a:moveTo>
                <a:cubicBezTo>
                  <a:pt x="15325" y="9720"/>
                  <a:pt x="15354" y="9687"/>
                  <a:pt x="15478" y="9773"/>
                </a:cubicBezTo>
                <a:cubicBezTo>
                  <a:pt x="15549" y="9822"/>
                  <a:pt x="15536" y="9854"/>
                  <a:pt x="15528" y="9922"/>
                </a:cubicBezTo>
                <a:cubicBezTo>
                  <a:pt x="15516" y="10028"/>
                  <a:pt x="15484" y="10062"/>
                  <a:pt x="15429" y="10145"/>
                </a:cubicBezTo>
                <a:cubicBezTo>
                  <a:pt x="15377" y="10223"/>
                  <a:pt x="15310" y="10291"/>
                  <a:pt x="15255" y="10368"/>
                </a:cubicBezTo>
                <a:cubicBezTo>
                  <a:pt x="15222" y="10414"/>
                  <a:pt x="15114" y="10539"/>
                  <a:pt x="15106" y="10616"/>
                </a:cubicBezTo>
                <a:cubicBezTo>
                  <a:pt x="15102" y="10657"/>
                  <a:pt x="15170" y="10663"/>
                  <a:pt x="15205" y="10666"/>
                </a:cubicBezTo>
                <a:cubicBezTo>
                  <a:pt x="15275" y="10672"/>
                  <a:pt x="15328" y="10691"/>
                  <a:pt x="15404" y="10691"/>
                </a:cubicBezTo>
                <a:cubicBezTo>
                  <a:pt x="15501" y="10691"/>
                  <a:pt x="15581" y="10685"/>
                  <a:pt x="15677" y="10666"/>
                </a:cubicBezTo>
              </a:path>
              <a:path w="4962" h="1737">
                <a:moveTo>
                  <a:pt x="15949" y="10691"/>
                </a:moveTo>
                <a:cubicBezTo>
                  <a:pt x="15935" y="10752"/>
                  <a:pt x="15906" y="10829"/>
                  <a:pt x="15900" y="10889"/>
                </a:cubicBezTo>
                <a:cubicBezTo>
                  <a:pt x="15895" y="10936"/>
                  <a:pt x="15885" y="10940"/>
                  <a:pt x="15925" y="10914"/>
                </a:cubicBezTo>
              </a:path>
              <a:path w="4962" h="1737">
                <a:moveTo>
                  <a:pt x="16247" y="10269"/>
                </a:moveTo>
                <a:cubicBezTo>
                  <a:pt x="16247" y="10383"/>
                  <a:pt x="16259" y="10479"/>
                  <a:pt x="16272" y="10592"/>
                </a:cubicBezTo>
                <a:cubicBezTo>
                  <a:pt x="16276" y="10631"/>
                  <a:pt x="16297" y="10723"/>
                  <a:pt x="16346" y="10740"/>
                </a:cubicBezTo>
                <a:cubicBezTo>
                  <a:pt x="16394" y="10757"/>
                  <a:pt x="16449" y="10767"/>
                  <a:pt x="16495" y="10740"/>
                </a:cubicBezTo>
                <a:cubicBezTo>
                  <a:pt x="16545" y="10711"/>
                  <a:pt x="16558" y="10643"/>
                  <a:pt x="16570" y="10592"/>
                </a:cubicBezTo>
                <a:cubicBezTo>
                  <a:pt x="16582" y="10540"/>
                  <a:pt x="16570" y="10473"/>
                  <a:pt x="16570" y="10418"/>
                </a:cubicBezTo>
                <a:cubicBezTo>
                  <a:pt x="16570" y="10470"/>
                  <a:pt x="16571" y="10498"/>
                  <a:pt x="16594" y="10542"/>
                </a:cubicBezTo>
                <a:cubicBezTo>
                  <a:pt x="16629" y="10608"/>
                  <a:pt x="16644" y="10635"/>
                  <a:pt x="16718" y="10641"/>
                </a:cubicBezTo>
                <a:cubicBezTo>
                  <a:pt x="16751" y="10641"/>
                  <a:pt x="16768" y="10641"/>
                  <a:pt x="16793" y="10641"/>
                </a:cubicBezTo>
              </a:path>
              <a:path w="4962" h="1737">
                <a:moveTo>
                  <a:pt x="16942" y="10294"/>
                </a:moveTo>
                <a:cubicBezTo>
                  <a:pt x="16942" y="10495"/>
                  <a:pt x="16947" y="10691"/>
                  <a:pt x="16966" y="10889"/>
                </a:cubicBezTo>
                <a:cubicBezTo>
                  <a:pt x="16976" y="10995"/>
                  <a:pt x="16986" y="11106"/>
                  <a:pt x="16991" y="11212"/>
                </a:cubicBezTo>
                <a:cubicBezTo>
                  <a:pt x="16991" y="11256"/>
                  <a:pt x="16988" y="11270"/>
                  <a:pt x="17016" y="11286"/>
                </a:cubicBezTo>
                <a:cubicBezTo>
                  <a:pt x="17016" y="11221"/>
                  <a:pt x="16994" y="11175"/>
                  <a:pt x="16991" y="11112"/>
                </a:cubicBezTo>
                <a:cubicBezTo>
                  <a:pt x="16987" y="11010"/>
                  <a:pt x="16966" y="10919"/>
                  <a:pt x="16966" y="10815"/>
                </a:cubicBezTo>
                <a:cubicBezTo>
                  <a:pt x="16966" y="10704"/>
                  <a:pt x="16956" y="10596"/>
                  <a:pt x="16991" y="10492"/>
                </a:cubicBezTo>
                <a:cubicBezTo>
                  <a:pt x="17015" y="10421"/>
                  <a:pt x="17040" y="10351"/>
                  <a:pt x="17090" y="10294"/>
                </a:cubicBezTo>
                <a:cubicBezTo>
                  <a:pt x="17122" y="10258"/>
                  <a:pt x="17142" y="10269"/>
                  <a:pt x="17190" y="10269"/>
                </a:cubicBezTo>
                <a:cubicBezTo>
                  <a:pt x="17220" y="10321"/>
                  <a:pt x="17226" y="10403"/>
                  <a:pt x="17214" y="10468"/>
                </a:cubicBezTo>
                <a:cubicBezTo>
                  <a:pt x="17201" y="10538"/>
                  <a:pt x="17162" y="10614"/>
                  <a:pt x="17115" y="10666"/>
                </a:cubicBezTo>
                <a:cubicBezTo>
                  <a:pt x="17072" y="10714"/>
                  <a:pt x="17027" y="10720"/>
                  <a:pt x="17016" y="10716"/>
                </a:cubicBezTo>
                <a:cubicBezTo>
                  <a:pt x="16981" y="10705"/>
                  <a:pt x="16991" y="10708"/>
                  <a:pt x="16991" y="10666"/>
                </a:cubicBezTo>
              </a:path>
              <a:path w="4962" h="1737">
                <a:moveTo>
                  <a:pt x="17636" y="9723"/>
                </a:moveTo>
                <a:cubicBezTo>
                  <a:pt x="17655" y="9863"/>
                  <a:pt x="17681" y="10004"/>
                  <a:pt x="17686" y="10145"/>
                </a:cubicBezTo>
                <a:cubicBezTo>
                  <a:pt x="17690" y="10265"/>
                  <a:pt x="17726" y="10377"/>
                  <a:pt x="17760" y="10492"/>
                </a:cubicBezTo>
                <a:cubicBezTo>
                  <a:pt x="17783" y="10570"/>
                  <a:pt x="17787" y="10641"/>
                  <a:pt x="17810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4840" y="4089240"/>
            <a:ext cx="1544400" cy="312840"/>
          </a:xfrm>
          <a:custGeom>
            <a:avLst/>
            <a:gdLst/>
            <a:ahLst/>
            <a:rect l="l" t="t" r="r" b="b"/>
            <a:pathLst>
              <a:path w="4292" h="869">
                <a:moveTo>
                  <a:pt x="10368" y="11832"/>
                </a:moveTo>
                <a:cubicBezTo>
                  <a:pt x="10372" y="11874"/>
                  <a:pt x="10374" y="11967"/>
                  <a:pt x="10393" y="12005"/>
                </a:cubicBezTo>
                <a:cubicBezTo>
                  <a:pt x="10434" y="12085"/>
                  <a:pt x="10398" y="11965"/>
                  <a:pt x="10393" y="11956"/>
                </a:cubicBezTo>
                <a:cubicBezTo>
                  <a:pt x="10362" y="11900"/>
                  <a:pt x="10366" y="11859"/>
                  <a:pt x="10344" y="11807"/>
                </a:cubicBezTo>
                <a:cubicBezTo>
                  <a:pt x="10324" y="11758"/>
                  <a:pt x="10312" y="11732"/>
                  <a:pt x="10344" y="11683"/>
                </a:cubicBezTo>
                <a:cubicBezTo>
                  <a:pt x="10382" y="11624"/>
                  <a:pt x="10469" y="11610"/>
                  <a:pt x="10517" y="11584"/>
                </a:cubicBezTo>
                <a:cubicBezTo>
                  <a:pt x="10525" y="11576"/>
                  <a:pt x="10534" y="11567"/>
                  <a:pt x="10542" y="11559"/>
                </a:cubicBezTo>
              </a:path>
              <a:path w="4292" h="869">
                <a:moveTo>
                  <a:pt x="10716" y="11881"/>
                </a:moveTo>
                <a:cubicBezTo>
                  <a:pt x="10782" y="11875"/>
                  <a:pt x="10838" y="11866"/>
                  <a:pt x="10889" y="11832"/>
                </a:cubicBezTo>
                <a:cubicBezTo>
                  <a:pt x="10928" y="11806"/>
                  <a:pt x="10944" y="11747"/>
                  <a:pt x="10964" y="11708"/>
                </a:cubicBezTo>
              </a:path>
              <a:path w="4292" h="869">
                <a:moveTo>
                  <a:pt x="10914" y="11633"/>
                </a:moveTo>
                <a:cubicBezTo>
                  <a:pt x="10856" y="11651"/>
                  <a:pt x="10800" y="11654"/>
                  <a:pt x="10765" y="11708"/>
                </a:cubicBezTo>
                <a:cubicBezTo>
                  <a:pt x="10722" y="11774"/>
                  <a:pt x="10716" y="11802"/>
                  <a:pt x="10716" y="11881"/>
                </a:cubicBezTo>
                <a:cubicBezTo>
                  <a:pt x="10716" y="11941"/>
                  <a:pt x="10748" y="11985"/>
                  <a:pt x="10790" y="12030"/>
                </a:cubicBezTo>
                <a:cubicBezTo>
                  <a:pt x="10832" y="12072"/>
                  <a:pt x="10840" y="12079"/>
                  <a:pt x="10864" y="12105"/>
                </a:cubicBezTo>
              </a:path>
              <a:path w="4292" h="869">
                <a:moveTo>
                  <a:pt x="11460" y="11361"/>
                </a:moveTo>
                <a:cubicBezTo>
                  <a:pt x="11331" y="11368"/>
                  <a:pt x="11295" y="11350"/>
                  <a:pt x="11237" y="11460"/>
                </a:cubicBezTo>
                <a:cubicBezTo>
                  <a:pt x="11194" y="11542"/>
                  <a:pt x="11212" y="11642"/>
                  <a:pt x="11212" y="11733"/>
                </a:cubicBezTo>
                <a:cubicBezTo>
                  <a:pt x="11212" y="11810"/>
                  <a:pt x="11238" y="11908"/>
                  <a:pt x="11261" y="11981"/>
                </a:cubicBezTo>
                <a:cubicBezTo>
                  <a:pt x="11277" y="12031"/>
                  <a:pt x="11286" y="12051"/>
                  <a:pt x="11286" y="12105"/>
                </a:cubicBezTo>
              </a:path>
              <a:path w="4292" h="869">
                <a:moveTo>
                  <a:pt x="11063" y="11857"/>
                </a:moveTo>
                <a:cubicBezTo>
                  <a:pt x="11147" y="11829"/>
                  <a:pt x="11220" y="11832"/>
                  <a:pt x="11311" y="11832"/>
                </a:cubicBezTo>
                <a:cubicBezTo>
                  <a:pt x="11336" y="11832"/>
                  <a:pt x="11360" y="11832"/>
                  <a:pt x="11385" y="11832"/>
                </a:cubicBezTo>
              </a:path>
              <a:path w="4292" h="869">
                <a:moveTo>
                  <a:pt x="11757" y="11361"/>
                </a:moveTo>
                <a:cubicBezTo>
                  <a:pt x="11757" y="11423"/>
                  <a:pt x="11736" y="11469"/>
                  <a:pt x="11733" y="11534"/>
                </a:cubicBezTo>
                <a:cubicBezTo>
                  <a:pt x="11728" y="11647"/>
                  <a:pt x="11744" y="11752"/>
                  <a:pt x="11757" y="11857"/>
                </a:cubicBezTo>
                <a:cubicBezTo>
                  <a:pt x="11766" y="11933"/>
                  <a:pt x="11776" y="12006"/>
                  <a:pt x="11782" y="12080"/>
                </a:cubicBezTo>
                <a:cubicBezTo>
                  <a:pt x="11782" y="12105"/>
                  <a:pt x="11782" y="12113"/>
                  <a:pt x="11782" y="12129"/>
                </a:cubicBezTo>
              </a:path>
              <a:path w="4292" h="869">
                <a:moveTo>
                  <a:pt x="11832" y="12030"/>
                </a:moveTo>
                <a:cubicBezTo>
                  <a:pt x="11909" y="11988"/>
                  <a:pt x="11975" y="11971"/>
                  <a:pt x="12055" y="11931"/>
                </a:cubicBezTo>
                <a:cubicBezTo>
                  <a:pt x="12101" y="11908"/>
                  <a:pt x="12138" y="11879"/>
                  <a:pt x="12154" y="11832"/>
                </a:cubicBezTo>
                <a:cubicBezTo>
                  <a:pt x="12154" y="11807"/>
                  <a:pt x="12154" y="11799"/>
                  <a:pt x="12154" y="11782"/>
                </a:cubicBezTo>
                <a:cubicBezTo>
                  <a:pt x="12120" y="11757"/>
                  <a:pt x="12077" y="11741"/>
                  <a:pt x="12030" y="11757"/>
                </a:cubicBezTo>
                <a:cubicBezTo>
                  <a:pt x="11961" y="11780"/>
                  <a:pt x="11920" y="11837"/>
                  <a:pt x="11906" y="11906"/>
                </a:cubicBezTo>
                <a:cubicBezTo>
                  <a:pt x="11888" y="11996"/>
                  <a:pt x="11924" y="12043"/>
                  <a:pt x="11981" y="12105"/>
                </a:cubicBezTo>
                <a:cubicBezTo>
                  <a:pt x="12010" y="12134"/>
                  <a:pt x="12025" y="12145"/>
                  <a:pt x="12055" y="12154"/>
                </a:cubicBezTo>
              </a:path>
              <a:path w="4292" h="869">
                <a:moveTo>
                  <a:pt x="12402" y="11757"/>
                </a:moveTo>
                <a:cubicBezTo>
                  <a:pt x="12333" y="11775"/>
                  <a:pt x="12310" y="11836"/>
                  <a:pt x="12303" y="11906"/>
                </a:cubicBezTo>
                <a:cubicBezTo>
                  <a:pt x="12295" y="11977"/>
                  <a:pt x="12308" y="12047"/>
                  <a:pt x="12353" y="12105"/>
                </a:cubicBezTo>
                <a:cubicBezTo>
                  <a:pt x="12392" y="12155"/>
                  <a:pt x="12463" y="12200"/>
                  <a:pt x="12526" y="12204"/>
                </a:cubicBezTo>
                <a:cubicBezTo>
                  <a:pt x="12543" y="12204"/>
                  <a:pt x="12559" y="12204"/>
                  <a:pt x="12576" y="12204"/>
                </a:cubicBezTo>
              </a:path>
              <a:path w="4292" h="869">
                <a:moveTo>
                  <a:pt x="12774" y="11733"/>
                </a:moveTo>
                <a:cubicBezTo>
                  <a:pt x="12774" y="11634"/>
                  <a:pt x="12774" y="11617"/>
                  <a:pt x="12774" y="11559"/>
                </a:cubicBezTo>
                <a:cubicBezTo>
                  <a:pt x="12760" y="11630"/>
                  <a:pt x="12750" y="11680"/>
                  <a:pt x="12750" y="11757"/>
                </a:cubicBezTo>
                <a:cubicBezTo>
                  <a:pt x="12750" y="11865"/>
                  <a:pt x="12762" y="11930"/>
                  <a:pt x="12799" y="12030"/>
                </a:cubicBezTo>
                <a:cubicBezTo>
                  <a:pt x="12823" y="12094"/>
                  <a:pt x="12836" y="12165"/>
                  <a:pt x="12849" y="12229"/>
                </a:cubicBezTo>
              </a:path>
              <a:path w="4292" h="869">
                <a:moveTo>
                  <a:pt x="12601" y="11757"/>
                </a:moveTo>
                <a:cubicBezTo>
                  <a:pt x="12689" y="11757"/>
                  <a:pt x="12765" y="11773"/>
                  <a:pt x="12849" y="11782"/>
                </a:cubicBezTo>
                <a:cubicBezTo>
                  <a:pt x="12923" y="11782"/>
                  <a:pt x="12948" y="11782"/>
                  <a:pt x="12998" y="11782"/>
                </a:cubicBezTo>
              </a:path>
              <a:path w="4292" h="869">
                <a:moveTo>
                  <a:pt x="13221" y="11881"/>
                </a:moveTo>
                <a:cubicBezTo>
                  <a:pt x="13202" y="11936"/>
                  <a:pt x="13140" y="12055"/>
                  <a:pt x="13196" y="12105"/>
                </a:cubicBezTo>
                <a:cubicBezTo>
                  <a:pt x="13231" y="12136"/>
                  <a:pt x="13300" y="12174"/>
                  <a:pt x="13345" y="12179"/>
                </a:cubicBezTo>
                <a:cubicBezTo>
                  <a:pt x="13353" y="12179"/>
                  <a:pt x="13362" y="12179"/>
                  <a:pt x="13370" y="12179"/>
                </a:cubicBezTo>
                <a:cubicBezTo>
                  <a:pt x="13379" y="12116"/>
                  <a:pt x="13414" y="12053"/>
                  <a:pt x="13395" y="11981"/>
                </a:cubicBezTo>
                <a:cubicBezTo>
                  <a:pt x="13372" y="11893"/>
                  <a:pt x="13335" y="11836"/>
                  <a:pt x="13271" y="11782"/>
                </a:cubicBezTo>
                <a:cubicBezTo>
                  <a:pt x="13246" y="11757"/>
                  <a:pt x="13238" y="11749"/>
                  <a:pt x="13221" y="11733"/>
                </a:cubicBezTo>
              </a:path>
              <a:path w="4292" h="869">
                <a:moveTo>
                  <a:pt x="13494" y="11956"/>
                </a:moveTo>
                <a:cubicBezTo>
                  <a:pt x="13517" y="12006"/>
                  <a:pt x="13566" y="12157"/>
                  <a:pt x="13643" y="12179"/>
                </a:cubicBezTo>
                <a:cubicBezTo>
                  <a:pt x="13729" y="12204"/>
                  <a:pt x="13723" y="12160"/>
                  <a:pt x="13742" y="12105"/>
                </a:cubicBezTo>
                <a:cubicBezTo>
                  <a:pt x="13765" y="12040"/>
                  <a:pt x="13776" y="11939"/>
                  <a:pt x="13767" y="11881"/>
                </a:cubicBezTo>
                <a:cubicBezTo>
                  <a:pt x="13761" y="11845"/>
                  <a:pt x="13718" y="11776"/>
                  <a:pt x="13742" y="11733"/>
                </a:cubicBezTo>
                <a:cubicBezTo>
                  <a:pt x="13764" y="11711"/>
                  <a:pt x="13769" y="11702"/>
                  <a:pt x="13791" y="11708"/>
                </a:cubicBezTo>
              </a:path>
              <a:path w="4292" h="869">
                <a:moveTo>
                  <a:pt x="13915" y="11981"/>
                </a:moveTo>
                <a:cubicBezTo>
                  <a:pt x="14011" y="11987"/>
                  <a:pt x="14080" y="12009"/>
                  <a:pt x="14089" y="11906"/>
                </a:cubicBezTo>
                <a:cubicBezTo>
                  <a:pt x="14092" y="11872"/>
                  <a:pt x="14065" y="11834"/>
                  <a:pt x="14039" y="11832"/>
                </a:cubicBezTo>
                <a:cubicBezTo>
                  <a:pt x="13973" y="11827"/>
                  <a:pt x="13960" y="11836"/>
                  <a:pt x="13915" y="11881"/>
                </a:cubicBezTo>
                <a:cubicBezTo>
                  <a:pt x="13867" y="11929"/>
                  <a:pt x="13866" y="11937"/>
                  <a:pt x="13866" y="12005"/>
                </a:cubicBezTo>
                <a:cubicBezTo>
                  <a:pt x="13866" y="12051"/>
                  <a:pt x="13930" y="12069"/>
                  <a:pt x="13965" y="12080"/>
                </a:cubicBezTo>
                <a:cubicBezTo>
                  <a:pt x="13990" y="12088"/>
                  <a:pt x="14014" y="12097"/>
                  <a:pt x="14039" y="12105"/>
                </a:cubicBezTo>
              </a:path>
              <a:path w="4292" h="869">
                <a:moveTo>
                  <a:pt x="14238" y="11881"/>
                </a:moveTo>
                <a:cubicBezTo>
                  <a:pt x="14218" y="11975"/>
                  <a:pt x="14203" y="12019"/>
                  <a:pt x="14238" y="12105"/>
                </a:cubicBezTo>
                <a:cubicBezTo>
                  <a:pt x="14262" y="12165"/>
                  <a:pt x="14263" y="12201"/>
                  <a:pt x="14263" y="12129"/>
                </a:cubicBezTo>
                <a:cubicBezTo>
                  <a:pt x="14263" y="12055"/>
                  <a:pt x="14227" y="11889"/>
                  <a:pt x="14288" y="11832"/>
                </a:cubicBezTo>
                <a:cubicBezTo>
                  <a:pt x="14337" y="11786"/>
                  <a:pt x="14423" y="11767"/>
                  <a:pt x="14486" y="11757"/>
                </a:cubicBezTo>
                <a:cubicBezTo>
                  <a:pt x="14543" y="11747"/>
                  <a:pt x="14561" y="11761"/>
                  <a:pt x="14610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7880" y="42148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4932" y="11733"/>
                </a:moveTo>
                <a:cubicBezTo>
                  <a:pt x="15006" y="11886"/>
                  <a:pt x="15060" y="11976"/>
                  <a:pt x="15156" y="12105"/>
                </a:cubicBezTo>
                <a:cubicBezTo>
                  <a:pt x="15231" y="12207"/>
                  <a:pt x="15246" y="12234"/>
                  <a:pt x="15354" y="12303"/>
                </a:cubicBezTo>
              </a:path>
              <a:path w="472" h="596">
                <a:moveTo>
                  <a:pt x="15255" y="11708"/>
                </a:moveTo>
                <a:cubicBezTo>
                  <a:pt x="15173" y="11842"/>
                  <a:pt x="15080" y="11967"/>
                  <a:pt x="15007" y="12105"/>
                </a:cubicBezTo>
                <a:cubicBezTo>
                  <a:pt x="14955" y="12208"/>
                  <a:pt x="14936" y="12244"/>
                  <a:pt x="1488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80080" y="442908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15850" y="12303"/>
                </a:moveTo>
                <a:cubicBezTo>
                  <a:pt x="15850" y="12366"/>
                  <a:pt x="15841" y="12444"/>
                  <a:pt x="15825" y="12502"/>
                </a:cubicBezTo>
                <a:cubicBezTo>
                  <a:pt x="15813" y="12544"/>
                  <a:pt x="15800" y="12570"/>
                  <a:pt x="15776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4133880"/>
            <a:ext cx="1073160" cy="366840"/>
          </a:xfrm>
          <a:custGeom>
            <a:avLst/>
            <a:gdLst/>
            <a:ahLst/>
            <a:rect l="l" t="t" r="r" b="b"/>
            <a:pathLst>
              <a:path w="2978" h="1018">
                <a:moveTo>
                  <a:pt x="16818" y="12080"/>
                </a:moveTo>
                <a:cubicBezTo>
                  <a:pt x="16841" y="12096"/>
                  <a:pt x="16877" y="12063"/>
                  <a:pt x="16867" y="12005"/>
                </a:cubicBezTo>
                <a:cubicBezTo>
                  <a:pt x="16861" y="11967"/>
                  <a:pt x="16821" y="11894"/>
                  <a:pt x="16793" y="11857"/>
                </a:cubicBezTo>
                <a:cubicBezTo>
                  <a:pt x="16753" y="11804"/>
                  <a:pt x="16679" y="11785"/>
                  <a:pt x="16619" y="11782"/>
                </a:cubicBezTo>
                <a:cubicBezTo>
                  <a:pt x="16540" y="11778"/>
                  <a:pt x="16463" y="11817"/>
                  <a:pt x="16396" y="11857"/>
                </a:cubicBezTo>
                <a:cubicBezTo>
                  <a:pt x="16316" y="11905"/>
                  <a:pt x="16262" y="11983"/>
                  <a:pt x="16247" y="12080"/>
                </a:cubicBezTo>
                <a:cubicBezTo>
                  <a:pt x="16232" y="12174"/>
                  <a:pt x="16279" y="12234"/>
                  <a:pt x="16321" y="12303"/>
                </a:cubicBezTo>
                <a:cubicBezTo>
                  <a:pt x="16372" y="12387"/>
                  <a:pt x="16403" y="12390"/>
                  <a:pt x="16495" y="12353"/>
                </a:cubicBezTo>
                <a:cubicBezTo>
                  <a:pt x="16563" y="12326"/>
                  <a:pt x="16628" y="12197"/>
                  <a:pt x="16644" y="12129"/>
                </a:cubicBezTo>
                <a:cubicBezTo>
                  <a:pt x="16668" y="12029"/>
                  <a:pt x="16690" y="11911"/>
                  <a:pt x="16694" y="11807"/>
                </a:cubicBezTo>
                <a:cubicBezTo>
                  <a:pt x="16698" y="11700"/>
                  <a:pt x="16694" y="11592"/>
                  <a:pt x="16694" y="11485"/>
                </a:cubicBezTo>
                <a:cubicBezTo>
                  <a:pt x="16694" y="11620"/>
                  <a:pt x="16707" y="11749"/>
                  <a:pt x="16718" y="11881"/>
                </a:cubicBezTo>
                <a:cubicBezTo>
                  <a:pt x="16728" y="11997"/>
                  <a:pt x="16728" y="12119"/>
                  <a:pt x="16768" y="12229"/>
                </a:cubicBezTo>
                <a:cubicBezTo>
                  <a:pt x="16786" y="12278"/>
                  <a:pt x="16794" y="12312"/>
                  <a:pt x="16818" y="12353"/>
                </a:cubicBezTo>
              </a:path>
              <a:path w="2978" h="1018">
                <a:moveTo>
                  <a:pt x="16991" y="11931"/>
                </a:moveTo>
                <a:cubicBezTo>
                  <a:pt x="16979" y="12059"/>
                  <a:pt x="16949" y="12131"/>
                  <a:pt x="17041" y="12229"/>
                </a:cubicBezTo>
                <a:cubicBezTo>
                  <a:pt x="17075" y="12266"/>
                  <a:pt x="17132" y="12306"/>
                  <a:pt x="17190" y="12278"/>
                </a:cubicBezTo>
                <a:cubicBezTo>
                  <a:pt x="17243" y="12252"/>
                  <a:pt x="17262" y="12155"/>
                  <a:pt x="17264" y="12105"/>
                </a:cubicBezTo>
                <a:cubicBezTo>
                  <a:pt x="17268" y="12016"/>
                  <a:pt x="17225" y="11904"/>
                  <a:pt x="17140" y="11857"/>
                </a:cubicBezTo>
                <a:cubicBezTo>
                  <a:pt x="17113" y="11842"/>
                  <a:pt x="17008" y="11847"/>
                  <a:pt x="16991" y="11881"/>
                </a:cubicBezTo>
                <a:cubicBezTo>
                  <a:pt x="16983" y="11896"/>
                  <a:pt x="16991" y="11970"/>
                  <a:pt x="16991" y="11981"/>
                </a:cubicBezTo>
              </a:path>
              <a:path w="2978" h="1018">
                <a:moveTo>
                  <a:pt x="17438" y="12080"/>
                </a:moveTo>
                <a:cubicBezTo>
                  <a:pt x="17444" y="12205"/>
                  <a:pt x="17431" y="12263"/>
                  <a:pt x="17512" y="12353"/>
                </a:cubicBezTo>
                <a:cubicBezTo>
                  <a:pt x="17541" y="12385"/>
                  <a:pt x="17583" y="12394"/>
                  <a:pt x="17611" y="12353"/>
                </a:cubicBezTo>
                <a:cubicBezTo>
                  <a:pt x="17661" y="12279"/>
                  <a:pt x="17661" y="12245"/>
                  <a:pt x="17661" y="12154"/>
                </a:cubicBezTo>
                <a:cubicBezTo>
                  <a:pt x="17661" y="12103"/>
                  <a:pt x="17676" y="12068"/>
                  <a:pt x="17636" y="12055"/>
                </a:cubicBezTo>
                <a:cubicBezTo>
                  <a:pt x="17636" y="12127"/>
                  <a:pt x="17662" y="12150"/>
                  <a:pt x="17711" y="12204"/>
                </a:cubicBezTo>
                <a:cubicBezTo>
                  <a:pt x="17748" y="12244"/>
                  <a:pt x="17806" y="12273"/>
                  <a:pt x="17859" y="12278"/>
                </a:cubicBezTo>
                <a:cubicBezTo>
                  <a:pt x="17867" y="12278"/>
                  <a:pt x="17876" y="12278"/>
                  <a:pt x="17884" y="12278"/>
                </a:cubicBezTo>
                <a:cubicBezTo>
                  <a:pt x="17875" y="12177"/>
                  <a:pt x="17841" y="12118"/>
                  <a:pt x="17785" y="12030"/>
                </a:cubicBezTo>
                <a:cubicBezTo>
                  <a:pt x="17758" y="11988"/>
                  <a:pt x="17678" y="11926"/>
                  <a:pt x="17735" y="11906"/>
                </a:cubicBezTo>
              </a:path>
              <a:path w="2978" h="1018">
                <a:moveTo>
                  <a:pt x="18083" y="12129"/>
                </a:moveTo>
                <a:cubicBezTo>
                  <a:pt x="18111" y="12289"/>
                  <a:pt x="18109" y="12262"/>
                  <a:pt x="18132" y="12353"/>
                </a:cubicBezTo>
                <a:cubicBezTo>
                  <a:pt x="18182" y="12287"/>
                  <a:pt x="18142" y="12210"/>
                  <a:pt x="18157" y="12129"/>
                </a:cubicBezTo>
                <a:cubicBezTo>
                  <a:pt x="18164" y="12090"/>
                  <a:pt x="18210" y="11947"/>
                  <a:pt x="18256" y="11931"/>
                </a:cubicBezTo>
                <a:cubicBezTo>
                  <a:pt x="18354" y="11896"/>
                  <a:pt x="18387" y="12027"/>
                  <a:pt x="18430" y="12080"/>
                </a:cubicBezTo>
                <a:cubicBezTo>
                  <a:pt x="18493" y="12158"/>
                  <a:pt x="18550" y="12228"/>
                  <a:pt x="18579" y="12328"/>
                </a:cubicBezTo>
                <a:cubicBezTo>
                  <a:pt x="18594" y="12379"/>
                  <a:pt x="18583" y="12376"/>
                  <a:pt x="18628" y="12353"/>
                </a:cubicBezTo>
              </a:path>
              <a:path w="2978" h="1018">
                <a:moveTo>
                  <a:pt x="18852" y="11857"/>
                </a:moveTo>
                <a:cubicBezTo>
                  <a:pt x="18852" y="11905"/>
                  <a:pt x="18838" y="11967"/>
                  <a:pt x="18876" y="12005"/>
                </a:cubicBezTo>
                <a:cubicBezTo>
                  <a:pt x="18935" y="12064"/>
                  <a:pt x="19045" y="12102"/>
                  <a:pt x="19124" y="12129"/>
                </a:cubicBezTo>
                <a:cubicBezTo>
                  <a:pt x="19149" y="12137"/>
                  <a:pt x="19174" y="12146"/>
                  <a:pt x="19199" y="12154"/>
                </a:cubicBezTo>
              </a:path>
              <a:path w="2978" h="1018">
                <a:moveTo>
                  <a:pt x="19224" y="11534"/>
                </a:moveTo>
                <a:cubicBezTo>
                  <a:pt x="19182" y="11765"/>
                  <a:pt x="19137" y="11995"/>
                  <a:pt x="19124" y="12229"/>
                </a:cubicBezTo>
                <a:cubicBezTo>
                  <a:pt x="19124" y="12370"/>
                  <a:pt x="19124" y="12411"/>
                  <a:pt x="19124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0960" y="4626000"/>
            <a:ext cx="3367080" cy="544320"/>
          </a:xfrm>
          <a:custGeom>
            <a:avLst/>
            <a:gdLst/>
            <a:ahLst/>
            <a:rect l="l" t="t" r="r" b="b"/>
            <a:pathLst>
              <a:path w="9352" h="1514">
                <a:moveTo>
                  <a:pt x="11088" y="13196"/>
                </a:moveTo>
                <a:cubicBezTo>
                  <a:pt x="11099" y="13241"/>
                  <a:pt x="11115" y="13279"/>
                  <a:pt x="11137" y="13320"/>
                </a:cubicBezTo>
                <a:cubicBezTo>
                  <a:pt x="11174" y="13388"/>
                  <a:pt x="11189" y="13451"/>
                  <a:pt x="11212" y="13519"/>
                </a:cubicBezTo>
                <a:cubicBezTo>
                  <a:pt x="11231" y="13575"/>
                  <a:pt x="11265" y="13639"/>
                  <a:pt x="11286" y="13692"/>
                </a:cubicBezTo>
                <a:cubicBezTo>
                  <a:pt x="11306" y="13733"/>
                  <a:pt x="11304" y="13749"/>
                  <a:pt x="11336" y="13742"/>
                </a:cubicBezTo>
                <a:cubicBezTo>
                  <a:pt x="11375" y="13729"/>
                  <a:pt x="11382" y="13695"/>
                  <a:pt x="11385" y="13643"/>
                </a:cubicBezTo>
                <a:cubicBezTo>
                  <a:pt x="11390" y="13555"/>
                  <a:pt x="11432" y="13480"/>
                  <a:pt x="11435" y="13395"/>
                </a:cubicBezTo>
                <a:cubicBezTo>
                  <a:pt x="11438" y="13310"/>
                  <a:pt x="11460" y="13253"/>
                  <a:pt x="11460" y="13171"/>
                </a:cubicBezTo>
                <a:cubicBezTo>
                  <a:pt x="11460" y="13146"/>
                  <a:pt x="11460" y="13122"/>
                  <a:pt x="11460" y="13097"/>
                </a:cubicBezTo>
              </a:path>
              <a:path w="9352" h="1514">
                <a:moveTo>
                  <a:pt x="11559" y="13320"/>
                </a:moveTo>
                <a:cubicBezTo>
                  <a:pt x="11583" y="13332"/>
                  <a:pt x="11710" y="13422"/>
                  <a:pt x="11757" y="13395"/>
                </a:cubicBezTo>
                <a:cubicBezTo>
                  <a:pt x="11800" y="13371"/>
                  <a:pt x="11814" y="13362"/>
                  <a:pt x="11832" y="13320"/>
                </a:cubicBezTo>
                <a:cubicBezTo>
                  <a:pt x="11867" y="13241"/>
                  <a:pt x="11854" y="13261"/>
                  <a:pt x="11832" y="13196"/>
                </a:cubicBezTo>
                <a:cubicBezTo>
                  <a:pt x="11822" y="13167"/>
                  <a:pt x="11798" y="13151"/>
                  <a:pt x="11757" y="13146"/>
                </a:cubicBezTo>
                <a:cubicBezTo>
                  <a:pt x="11724" y="13142"/>
                  <a:pt x="11658" y="13175"/>
                  <a:pt x="11633" y="13196"/>
                </a:cubicBezTo>
                <a:cubicBezTo>
                  <a:pt x="11613" y="13212"/>
                  <a:pt x="11566" y="13319"/>
                  <a:pt x="11559" y="13345"/>
                </a:cubicBezTo>
                <a:cubicBezTo>
                  <a:pt x="11542" y="13408"/>
                  <a:pt x="11602" y="13541"/>
                  <a:pt x="11633" y="13593"/>
                </a:cubicBezTo>
                <a:cubicBezTo>
                  <a:pt x="11656" y="13632"/>
                  <a:pt x="11713" y="13689"/>
                  <a:pt x="11757" y="13692"/>
                </a:cubicBezTo>
                <a:cubicBezTo>
                  <a:pt x="11774" y="13692"/>
                  <a:pt x="11790" y="13692"/>
                  <a:pt x="11807" y="13692"/>
                </a:cubicBezTo>
              </a:path>
              <a:path w="9352" h="1514">
                <a:moveTo>
                  <a:pt x="11931" y="13320"/>
                </a:moveTo>
                <a:cubicBezTo>
                  <a:pt x="11954" y="13373"/>
                  <a:pt x="11972" y="13439"/>
                  <a:pt x="11981" y="13494"/>
                </a:cubicBezTo>
                <a:cubicBezTo>
                  <a:pt x="11991" y="13555"/>
                  <a:pt x="11982" y="13609"/>
                  <a:pt x="12005" y="13667"/>
                </a:cubicBezTo>
                <a:cubicBezTo>
                  <a:pt x="12029" y="13727"/>
                  <a:pt x="12030" y="13765"/>
                  <a:pt x="12030" y="13692"/>
                </a:cubicBezTo>
                <a:cubicBezTo>
                  <a:pt x="12030" y="13625"/>
                  <a:pt x="12045" y="13580"/>
                  <a:pt x="12055" y="13519"/>
                </a:cubicBezTo>
                <a:cubicBezTo>
                  <a:pt x="12071" y="13427"/>
                  <a:pt x="12084" y="13334"/>
                  <a:pt x="12105" y="13246"/>
                </a:cubicBezTo>
                <a:cubicBezTo>
                  <a:pt x="12115" y="13204"/>
                  <a:pt x="12133" y="13176"/>
                  <a:pt x="12179" y="13171"/>
                </a:cubicBezTo>
                <a:cubicBezTo>
                  <a:pt x="12217" y="13167"/>
                  <a:pt x="12263" y="13191"/>
                  <a:pt x="12303" y="13196"/>
                </a:cubicBezTo>
              </a:path>
              <a:path w="9352" h="1514">
                <a:moveTo>
                  <a:pt x="12576" y="12923"/>
                </a:moveTo>
                <a:cubicBezTo>
                  <a:pt x="12576" y="12978"/>
                  <a:pt x="12553" y="13016"/>
                  <a:pt x="12551" y="13072"/>
                </a:cubicBezTo>
                <a:cubicBezTo>
                  <a:pt x="12544" y="13225"/>
                  <a:pt x="12556" y="13371"/>
                  <a:pt x="12576" y="13519"/>
                </a:cubicBezTo>
                <a:cubicBezTo>
                  <a:pt x="12585" y="13587"/>
                  <a:pt x="12596" y="13651"/>
                  <a:pt x="12601" y="13717"/>
                </a:cubicBezTo>
                <a:cubicBezTo>
                  <a:pt x="12601" y="13725"/>
                  <a:pt x="12601" y="13734"/>
                  <a:pt x="12601" y="13742"/>
                </a:cubicBezTo>
              </a:path>
              <a:path w="9352" h="1514">
                <a:moveTo>
                  <a:pt x="12353" y="13221"/>
                </a:moveTo>
                <a:cubicBezTo>
                  <a:pt x="12441" y="13240"/>
                  <a:pt x="12517" y="13277"/>
                  <a:pt x="12601" y="13295"/>
                </a:cubicBezTo>
                <a:cubicBezTo>
                  <a:pt x="12617" y="13295"/>
                  <a:pt x="12634" y="13295"/>
                  <a:pt x="12650" y="13295"/>
                </a:cubicBezTo>
              </a:path>
              <a:path w="9352" h="1514">
                <a:moveTo>
                  <a:pt x="12799" y="13246"/>
                </a:moveTo>
                <a:cubicBezTo>
                  <a:pt x="12806" y="13356"/>
                  <a:pt x="12832" y="13419"/>
                  <a:pt x="12849" y="13519"/>
                </a:cubicBezTo>
                <a:cubicBezTo>
                  <a:pt x="12858" y="13570"/>
                  <a:pt x="12874" y="13614"/>
                  <a:pt x="12874" y="13667"/>
                </a:cubicBezTo>
                <a:cubicBezTo>
                  <a:pt x="12874" y="13675"/>
                  <a:pt x="12874" y="13684"/>
                  <a:pt x="12874" y="13692"/>
                </a:cubicBezTo>
              </a:path>
              <a:path w="9352" h="1514">
                <a:moveTo>
                  <a:pt x="12898" y="13047"/>
                </a:moveTo>
                <a:lnTo>
                  <a:pt x="12898" y="13047"/>
                </a:lnTo>
              </a:path>
              <a:path w="9352" h="1514">
                <a:moveTo>
                  <a:pt x="13246" y="13419"/>
                </a:moveTo>
                <a:cubicBezTo>
                  <a:pt x="13246" y="13444"/>
                  <a:pt x="13246" y="13452"/>
                  <a:pt x="13271" y="13444"/>
                </a:cubicBezTo>
              </a:path>
              <a:path w="9352" h="1514">
                <a:moveTo>
                  <a:pt x="13122" y="13246"/>
                </a:moveTo>
                <a:cubicBezTo>
                  <a:pt x="13080" y="13274"/>
                  <a:pt x="13036" y="13310"/>
                  <a:pt x="13022" y="13370"/>
                </a:cubicBezTo>
                <a:cubicBezTo>
                  <a:pt x="13008" y="13427"/>
                  <a:pt x="13025" y="13493"/>
                  <a:pt x="13047" y="13543"/>
                </a:cubicBezTo>
                <a:cubicBezTo>
                  <a:pt x="13081" y="13620"/>
                  <a:pt x="13106" y="13670"/>
                  <a:pt x="13171" y="13717"/>
                </a:cubicBezTo>
              </a:path>
              <a:path w="9352" h="1514">
                <a:moveTo>
                  <a:pt x="13568" y="13419"/>
                </a:moveTo>
                <a:cubicBezTo>
                  <a:pt x="13482" y="13394"/>
                  <a:pt x="13463" y="13382"/>
                  <a:pt x="13395" y="13444"/>
                </a:cubicBezTo>
                <a:cubicBezTo>
                  <a:pt x="13346" y="13489"/>
                  <a:pt x="13345" y="13531"/>
                  <a:pt x="13345" y="13593"/>
                </a:cubicBezTo>
                <a:cubicBezTo>
                  <a:pt x="13345" y="13638"/>
                  <a:pt x="13374" y="13716"/>
                  <a:pt x="13419" y="13742"/>
                </a:cubicBezTo>
                <a:cubicBezTo>
                  <a:pt x="13449" y="13759"/>
                  <a:pt x="13475" y="13731"/>
                  <a:pt x="13494" y="13717"/>
                </a:cubicBezTo>
              </a:path>
              <a:path w="9352" h="1514">
                <a:moveTo>
                  <a:pt x="13568" y="13568"/>
                </a:moveTo>
                <a:cubicBezTo>
                  <a:pt x="13583" y="13489"/>
                  <a:pt x="13593" y="13461"/>
                  <a:pt x="13593" y="13395"/>
                </a:cubicBezTo>
                <a:cubicBezTo>
                  <a:pt x="13593" y="13453"/>
                  <a:pt x="13594" y="13489"/>
                  <a:pt x="13618" y="13543"/>
                </a:cubicBezTo>
                <a:cubicBezTo>
                  <a:pt x="13650" y="13613"/>
                  <a:pt x="13668" y="13705"/>
                  <a:pt x="13717" y="13767"/>
                </a:cubicBezTo>
                <a:cubicBezTo>
                  <a:pt x="13756" y="13805"/>
                  <a:pt x="13757" y="13822"/>
                  <a:pt x="13791" y="13816"/>
                </a:cubicBezTo>
              </a:path>
              <a:path w="9352" h="1514">
                <a:moveTo>
                  <a:pt x="13891" y="12849"/>
                </a:moveTo>
                <a:cubicBezTo>
                  <a:pt x="13850" y="12917"/>
                  <a:pt x="13888" y="12965"/>
                  <a:pt x="13891" y="13047"/>
                </a:cubicBezTo>
                <a:cubicBezTo>
                  <a:pt x="13895" y="13154"/>
                  <a:pt x="13912" y="13266"/>
                  <a:pt x="13940" y="13370"/>
                </a:cubicBezTo>
                <a:cubicBezTo>
                  <a:pt x="13970" y="13483"/>
                  <a:pt x="13972" y="13606"/>
                  <a:pt x="14015" y="13717"/>
                </a:cubicBezTo>
                <a:cubicBezTo>
                  <a:pt x="14025" y="13743"/>
                  <a:pt x="14047" y="13769"/>
                  <a:pt x="14064" y="13791"/>
                </a:cubicBezTo>
              </a:path>
              <a:path w="9352" h="1514">
                <a:moveTo>
                  <a:pt x="14486" y="13271"/>
                </a:moveTo>
                <a:cubicBezTo>
                  <a:pt x="14459" y="13256"/>
                  <a:pt x="14399" y="13200"/>
                  <a:pt x="14362" y="13221"/>
                </a:cubicBezTo>
                <a:cubicBezTo>
                  <a:pt x="14308" y="13251"/>
                  <a:pt x="14344" y="13311"/>
                  <a:pt x="14362" y="13345"/>
                </a:cubicBezTo>
                <a:cubicBezTo>
                  <a:pt x="14402" y="13421"/>
                  <a:pt x="14452" y="13467"/>
                  <a:pt x="14511" y="13519"/>
                </a:cubicBezTo>
                <a:cubicBezTo>
                  <a:pt x="14559" y="13561"/>
                  <a:pt x="14643" y="13655"/>
                  <a:pt x="14660" y="13717"/>
                </a:cubicBezTo>
                <a:cubicBezTo>
                  <a:pt x="14667" y="13741"/>
                  <a:pt x="14660" y="13789"/>
                  <a:pt x="14660" y="13816"/>
                </a:cubicBezTo>
                <a:cubicBezTo>
                  <a:pt x="14597" y="13816"/>
                  <a:pt x="14563" y="13808"/>
                  <a:pt x="14511" y="13791"/>
                </a:cubicBezTo>
                <a:cubicBezTo>
                  <a:pt x="14436" y="13766"/>
                  <a:pt x="14444" y="13749"/>
                  <a:pt x="14436" y="13667"/>
                </a:cubicBezTo>
              </a:path>
              <a:path w="9352" h="1514">
                <a:moveTo>
                  <a:pt x="14858" y="12923"/>
                </a:moveTo>
                <a:cubicBezTo>
                  <a:pt x="14878" y="13063"/>
                  <a:pt x="14894" y="13206"/>
                  <a:pt x="14908" y="13345"/>
                </a:cubicBezTo>
                <a:cubicBezTo>
                  <a:pt x="14918" y="13446"/>
                  <a:pt x="14945" y="13548"/>
                  <a:pt x="14957" y="13643"/>
                </a:cubicBezTo>
                <a:cubicBezTo>
                  <a:pt x="14966" y="13715"/>
                  <a:pt x="14947" y="13735"/>
                  <a:pt x="14982" y="13791"/>
                </a:cubicBezTo>
                <a:cubicBezTo>
                  <a:pt x="14982" y="13719"/>
                  <a:pt x="14998" y="13665"/>
                  <a:pt x="15007" y="13593"/>
                </a:cubicBezTo>
                <a:cubicBezTo>
                  <a:pt x="15014" y="13534"/>
                  <a:pt x="15020" y="13464"/>
                  <a:pt x="15056" y="13419"/>
                </a:cubicBezTo>
                <a:cubicBezTo>
                  <a:pt x="15090" y="13377"/>
                  <a:pt x="15074" y="13370"/>
                  <a:pt x="15131" y="13370"/>
                </a:cubicBezTo>
                <a:cubicBezTo>
                  <a:pt x="15174" y="13370"/>
                  <a:pt x="15187" y="13412"/>
                  <a:pt x="15205" y="13444"/>
                </a:cubicBezTo>
                <a:cubicBezTo>
                  <a:pt x="15238" y="13501"/>
                  <a:pt x="15269" y="13553"/>
                  <a:pt x="15280" y="13618"/>
                </a:cubicBezTo>
                <a:cubicBezTo>
                  <a:pt x="15290" y="13674"/>
                  <a:pt x="15292" y="13717"/>
                  <a:pt x="15304" y="13767"/>
                </a:cubicBezTo>
              </a:path>
              <a:path w="9352" h="1514">
                <a:moveTo>
                  <a:pt x="15379" y="13643"/>
                </a:moveTo>
                <a:cubicBezTo>
                  <a:pt x="15402" y="13704"/>
                  <a:pt x="15439" y="13781"/>
                  <a:pt x="15453" y="13841"/>
                </a:cubicBezTo>
                <a:cubicBezTo>
                  <a:pt x="15453" y="13733"/>
                  <a:pt x="15406" y="13498"/>
                  <a:pt x="15478" y="13419"/>
                </a:cubicBezTo>
                <a:cubicBezTo>
                  <a:pt x="15514" y="13379"/>
                  <a:pt x="15544" y="13356"/>
                  <a:pt x="15602" y="13370"/>
                </a:cubicBezTo>
                <a:cubicBezTo>
                  <a:pt x="15627" y="13378"/>
                  <a:pt x="15652" y="13387"/>
                  <a:pt x="15677" y="13395"/>
                </a:cubicBezTo>
              </a:path>
              <a:path w="9352" h="1514">
                <a:moveTo>
                  <a:pt x="15776" y="13519"/>
                </a:moveTo>
                <a:cubicBezTo>
                  <a:pt x="15800" y="13621"/>
                  <a:pt x="15829" y="13718"/>
                  <a:pt x="15850" y="13816"/>
                </a:cubicBezTo>
                <a:cubicBezTo>
                  <a:pt x="15850" y="13841"/>
                  <a:pt x="15850" y="13849"/>
                  <a:pt x="15850" y="13866"/>
                </a:cubicBezTo>
              </a:path>
              <a:path w="9352" h="1514">
                <a:moveTo>
                  <a:pt x="15825" y="13196"/>
                </a:moveTo>
                <a:cubicBezTo>
                  <a:pt x="15850" y="13171"/>
                  <a:pt x="15858" y="13163"/>
                  <a:pt x="15875" y="13196"/>
                </a:cubicBezTo>
              </a:path>
              <a:path w="9352" h="1514">
                <a:moveTo>
                  <a:pt x="15974" y="13593"/>
                </a:moveTo>
                <a:cubicBezTo>
                  <a:pt x="15986" y="13667"/>
                  <a:pt x="15999" y="13891"/>
                  <a:pt x="15999" y="13816"/>
                </a:cubicBezTo>
                <a:cubicBezTo>
                  <a:pt x="15999" y="13752"/>
                  <a:pt x="16045" y="13671"/>
                  <a:pt x="16049" y="13593"/>
                </a:cubicBezTo>
                <a:cubicBezTo>
                  <a:pt x="16052" y="13521"/>
                  <a:pt x="16074" y="13493"/>
                  <a:pt x="16123" y="13444"/>
                </a:cubicBezTo>
                <a:cubicBezTo>
                  <a:pt x="16163" y="13404"/>
                  <a:pt x="16192" y="13422"/>
                  <a:pt x="16222" y="13469"/>
                </a:cubicBezTo>
                <a:cubicBezTo>
                  <a:pt x="16262" y="13532"/>
                  <a:pt x="16317" y="13600"/>
                  <a:pt x="16346" y="13667"/>
                </a:cubicBezTo>
                <a:cubicBezTo>
                  <a:pt x="16376" y="13737"/>
                  <a:pt x="16423" y="13818"/>
                  <a:pt x="16446" y="13891"/>
                </a:cubicBezTo>
                <a:cubicBezTo>
                  <a:pt x="16446" y="13915"/>
                  <a:pt x="16446" y="13923"/>
                  <a:pt x="16470" y="13915"/>
                </a:cubicBezTo>
              </a:path>
              <a:path w="9352" h="1514">
                <a:moveTo>
                  <a:pt x="16594" y="13097"/>
                </a:moveTo>
                <a:cubicBezTo>
                  <a:pt x="16604" y="13177"/>
                  <a:pt x="16626" y="13266"/>
                  <a:pt x="16644" y="13345"/>
                </a:cubicBezTo>
                <a:cubicBezTo>
                  <a:pt x="16667" y="13446"/>
                  <a:pt x="16707" y="13540"/>
                  <a:pt x="16718" y="13643"/>
                </a:cubicBezTo>
                <a:cubicBezTo>
                  <a:pt x="16726" y="13722"/>
                  <a:pt x="16743" y="13785"/>
                  <a:pt x="16743" y="13866"/>
                </a:cubicBezTo>
                <a:cubicBezTo>
                  <a:pt x="16743" y="13873"/>
                  <a:pt x="16743" y="13956"/>
                  <a:pt x="16743" y="13891"/>
                </a:cubicBezTo>
              </a:path>
              <a:path w="9352" h="1514">
                <a:moveTo>
                  <a:pt x="16966" y="13320"/>
                </a:moveTo>
                <a:cubicBezTo>
                  <a:pt x="16906" y="13307"/>
                  <a:pt x="16827" y="13292"/>
                  <a:pt x="16793" y="13370"/>
                </a:cubicBezTo>
                <a:cubicBezTo>
                  <a:pt x="16770" y="13422"/>
                  <a:pt x="16802" y="13497"/>
                  <a:pt x="16818" y="13543"/>
                </a:cubicBezTo>
                <a:cubicBezTo>
                  <a:pt x="16850" y="13638"/>
                  <a:pt x="16893" y="13705"/>
                  <a:pt x="16942" y="13791"/>
                </a:cubicBezTo>
                <a:cubicBezTo>
                  <a:pt x="16971" y="13842"/>
                  <a:pt x="16999" y="13874"/>
                  <a:pt x="17041" y="13915"/>
                </a:cubicBezTo>
              </a:path>
              <a:path w="9352" h="1514">
                <a:moveTo>
                  <a:pt x="17289" y="14163"/>
                </a:moveTo>
                <a:cubicBezTo>
                  <a:pt x="17303" y="14228"/>
                  <a:pt x="17301" y="14311"/>
                  <a:pt x="17338" y="14362"/>
                </a:cubicBezTo>
              </a:path>
              <a:path w="9352" h="1514">
                <a:moveTo>
                  <a:pt x="17959" y="13692"/>
                </a:moveTo>
                <a:cubicBezTo>
                  <a:pt x="17978" y="13593"/>
                  <a:pt x="17979" y="13582"/>
                  <a:pt x="17909" y="13519"/>
                </a:cubicBezTo>
                <a:cubicBezTo>
                  <a:pt x="17857" y="13472"/>
                  <a:pt x="17827" y="13469"/>
                  <a:pt x="17760" y="13469"/>
                </a:cubicBezTo>
                <a:cubicBezTo>
                  <a:pt x="17697" y="13469"/>
                  <a:pt x="17647" y="13513"/>
                  <a:pt x="17611" y="13568"/>
                </a:cubicBezTo>
                <a:cubicBezTo>
                  <a:pt x="17566" y="13636"/>
                  <a:pt x="17582" y="13722"/>
                  <a:pt x="17611" y="13791"/>
                </a:cubicBezTo>
                <a:cubicBezTo>
                  <a:pt x="17633" y="13843"/>
                  <a:pt x="17664" y="13931"/>
                  <a:pt x="17711" y="13965"/>
                </a:cubicBezTo>
                <a:cubicBezTo>
                  <a:pt x="17777" y="14013"/>
                  <a:pt x="17819" y="13958"/>
                  <a:pt x="17859" y="13915"/>
                </a:cubicBezTo>
                <a:cubicBezTo>
                  <a:pt x="17921" y="13849"/>
                  <a:pt x="17993" y="13760"/>
                  <a:pt x="18008" y="13667"/>
                </a:cubicBezTo>
                <a:cubicBezTo>
                  <a:pt x="18027" y="13547"/>
                  <a:pt x="18046" y="13416"/>
                  <a:pt x="18058" y="13295"/>
                </a:cubicBezTo>
                <a:cubicBezTo>
                  <a:pt x="18061" y="13265"/>
                  <a:pt x="18053" y="13092"/>
                  <a:pt x="18033" y="13072"/>
                </a:cubicBezTo>
                <a:cubicBezTo>
                  <a:pt x="18025" y="13072"/>
                  <a:pt x="18016" y="13072"/>
                  <a:pt x="18008" y="13072"/>
                </a:cubicBezTo>
                <a:cubicBezTo>
                  <a:pt x="17992" y="13134"/>
                  <a:pt x="17983" y="13170"/>
                  <a:pt x="17983" y="13246"/>
                </a:cubicBezTo>
                <a:cubicBezTo>
                  <a:pt x="17983" y="13378"/>
                  <a:pt x="17996" y="13518"/>
                  <a:pt x="18033" y="13643"/>
                </a:cubicBezTo>
                <a:cubicBezTo>
                  <a:pt x="18050" y="13701"/>
                  <a:pt x="18054" y="13791"/>
                  <a:pt x="18083" y="13841"/>
                </a:cubicBezTo>
                <a:cubicBezTo>
                  <a:pt x="18107" y="13866"/>
                  <a:pt x="18115" y="13874"/>
                  <a:pt x="18132" y="13841"/>
                </a:cubicBezTo>
              </a:path>
              <a:path w="9352" h="1514">
                <a:moveTo>
                  <a:pt x="18281" y="13543"/>
                </a:moveTo>
                <a:cubicBezTo>
                  <a:pt x="18281" y="13664"/>
                  <a:pt x="18259" y="13805"/>
                  <a:pt x="18306" y="13915"/>
                </a:cubicBezTo>
                <a:cubicBezTo>
                  <a:pt x="18331" y="13974"/>
                  <a:pt x="18371" y="14025"/>
                  <a:pt x="18430" y="14039"/>
                </a:cubicBezTo>
                <a:cubicBezTo>
                  <a:pt x="18513" y="14019"/>
                  <a:pt x="18488" y="13962"/>
                  <a:pt x="18504" y="13891"/>
                </a:cubicBezTo>
                <a:cubicBezTo>
                  <a:pt x="18530" y="13778"/>
                  <a:pt x="18544" y="13682"/>
                  <a:pt x="18504" y="13568"/>
                </a:cubicBezTo>
                <a:cubicBezTo>
                  <a:pt x="18483" y="13508"/>
                  <a:pt x="18449" y="13462"/>
                  <a:pt x="18405" y="13419"/>
                </a:cubicBezTo>
                <a:cubicBezTo>
                  <a:pt x="18370" y="13385"/>
                  <a:pt x="18295" y="13420"/>
                  <a:pt x="18281" y="13469"/>
                </a:cubicBezTo>
                <a:cubicBezTo>
                  <a:pt x="18260" y="13543"/>
                  <a:pt x="18298" y="13582"/>
                  <a:pt x="18331" y="13643"/>
                </a:cubicBezTo>
              </a:path>
              <a:path w="9352" h="1514">
                <a:moveTo>
                  <a:pt x="18653" y="13717"/>
                </a:moveTo>
                <a:cubicBezTo>
                  <a:pt x="18653" y="13802"/>
                  <a:pt x="18644" y="13850"/>
                  <a:pt x="18703" y="13915"/>
                </a:cubicBezTo>
                <a:cubicBezTo>
                  <a:pt x="18739" y="13954"/>
                  <a:pt x="18766" y="13946"/>
                  <a:pt x="18802" y="13915"/>
                </a:cubicBezTo>
                <a:cubicBezTo>
                  <a:pt x="18828" y="13892"/>
                  <a:pt x="18862" y="13803"/>
                  <a:pt x="18876" y="13767"/>
                </a:cubicBezTo>
                <a:cubicBezTo>
                  <a:pt x="18878" y="13761"/>
                  <a:pt x="18876" y="13673"/>
                  <a:pt x="18876" y="13742"/>
                </a:cubicBezTo>
                <a:cubicBezTo>
                  <a:pt x="18876" y="13807"/>
                  <a:pt x="18898" y="13857"/>
                  <a:pt x="18926" y="13915"/>
                </a:cubicBezTo>
                <a:cubicBezTo>
                  <a:pt x="18951" y="13968"/>
                  <a:pt x="18990" y="14033"/>
                  <a:pt x="19050" y="14039"/>
                </a:cubicBezTo>
                <a:cubicBezTo>
                  <a:pt x="19058" y="14039"/>
                  <a:pt x="19067" y="14039"/>
                  <a:pt x="19075" y="14039"/>
                </a:cubicBezTo>
                <a:cubicBezTo>
                  <a:pt x="19119" y="13951"/>
                  <a:pt x="19128" y="13883"/>
                  <a:pt x="19149" y="13791"/>
                </a:cubicBezTo>
                <a:cubicBezTo>
                  <a:pt x="19165" y="13719"/>
                  <a:pt x="19174" y="13589"/>
                  <a:pt x="19124" y="13519"/>
                </a:cubicBezTo>
                <a:cubicBezTo>
                  <a:pt x="19120" y="13514"/>
                  <a:pt x="19055" y="13452"/>
                  <a:pt x="19100" y="13519"/>
                </a:cubicBezTo>
              </a:path>
              <a:path w="9352" h="1514">
                <a:moveTo>
                  <a:pt x="19298" y="13742"/>
                </a:moveTo>
                <a:cubicBezTo>
                  <a:pt x="19313" y="13843"/>
                  <a:pt x="19323" y="13917"/>
                  <a:pt x="19323" y="14015"/>
                </a:cubicBezTo>
                <a:cubicBezTo>
                  <a:pt x="19366" y="13957"/>
                  <a:pt x="19354" y="13865"/>
                  <a:pt x="19372" y="13791"/>
                </a:cubicBezTo>
                <a:cubicBezTo>
                  <a:pt x="19392" y="13710"/>
                  <a:pt x="19388" y="13592"/>
                  <a:pt x="19422" y="13519"/>
                </a:cubicBezTo>
                <a:cubicBezTo>
                  <a:pt x="19439" y="13494"/>
                  <a:pt x="19455" y="13469"/>
                  <a:pt x="19472" y="13444"/>
                </a:cubicBezTo>
                <a:cubicBezTo>
                  <a:pt x="19521" y="13495"/>
                  <a:pt x="19529" y="13504"/>
                  <a:pt x="19546" y="13568"/>
                </a:cubicBezTo>
                <a:cubicBezTo>
                  <a:pt x="19571" y="13659"/>
                  <a:pt x="19608" y="13748"/>
                  <a:pt x="19621" y="13841"/>
                </a:cubicBezTo>
                <a:cubicBezTo>
                  <a:pt x="19629" y="13893"/>
                  <a:pt x="19645" y="13937"/>
                  <a:pt x="19645" y="13990"/>
                </a:cubicBezTo>
                <a:cubicBezTo>
                  <a:pt x="19645" y="14015"/>
                  <a:pt x="19645" y="14023"/>
                  <a:pt x="19670" y="14015"/>
                </a:cubicBezTo>
              </a:path>
              <a:path w="9352" h="1514">
                <a:moveTo>
                  <a:pt x="19943" y="13171"/>
                </a:moveTo>
                <a:cubicBezTo>
                  <a:pt x="20032" y="13115"/>
                  <a:pt x="20064" y="13097"/>
                  <a:pt x="20166" y="13097"/>
                </a:cubicBezTo>
                <a:cubicBezTo>
                  <a:pt x="20234" y="13097"/>
                  <a:pt x="20285" y="13105"/>
                  <a:pt x="20340" y="13072"/>
                </a:cubicBezTo>
              </a:path>
              <a:path w="9352" h="1514">
                <a:moveTo>
                  <a:pt x="20042" y="13097"/>
                </a:moveTo>
                <a:cubicBezTo>
                  <a:pt x="20009" y="13174"/>
                  <a:pt x="19925" y="13307"/>
                  <a:pt x="19918" y="13395"/>
                </a:cubicBezTo>
                <a:cubicBezTo>
                  <a:pt x="19914" y="13441"/>
                  <a:pt x="19888" y="13449"/>
                  <a:pt x="19918" y="13494"/>
                </a:cubicBezTo>
                <a:cubicBezTo>
                  <a:pt x="19936" y="13521"/>
                  <a:pt x="19986" y="13530"/>
                  <a:pt x="20017" y="13519"/>
                </a:cubicBezTo>
                <a:cubicBezTo>
                  <a:pt x="20093" y="13492"/>
                  <a:pt x="20141" y="13490"/>
                  <a:pt x="20216" y="13519"/>
                </a:cubicBezTo>
                <a:cubicBezTo>
                  <a:pt x="20263" y="13537"/>
                  <a:pt x="20356" y="13579"/>
                  <a:pt x="20389" y="13618"/>
                </a:cubicBezTo>
                <a:cubicBezTo>
                  <a:pt x="20436" y="13673"/>
                  <a:pt x="20456" y="13772"/>
                  <a:pt x="20439" y="13841"/>
                </a:cubicBezTo>
                <a:cubicBezTo>
                  <a:pt x="20422" y="13910"/>
                  <a:pt x="20371" y="13956"/>
                  <a:pt x="20315" y="13990"/>
                </a:cubicBezTo>
                <a:cubicBezTo>
                  <a:pt x="20258" y="14024"/>
                  <a:pt x="20205" y="14015"/>
                  <a:pt x="20141" y="14015"/>
                </a:cubicBezTo>
                <a:cubicBezTo>
                  <a:pt x="20058" y="14015"/>
                  <a:pt x="19976" y="14015"/>
                  <a:pt x="19893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scribe the transformation from f(x) =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|x|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(x)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x|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(x) = |-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(x) = 2|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(x) = -|x - 7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(x) = ½|9 - x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75000" y="1571760"/>
            <a:ext cx="1285920" cy="420480"/>
          </a:xfrm>
          <a:custGeom>
            <a:avLst/>
            <a:gdLst/>
            <a:ahLst/>
            <a:rect l="l" t="t" r="r" b="b"/>
            <a:pathLst>
              <a:path w="3573" h="1166">
                <a:moveTo>
                  <a:pt x="9897" y="4366"/>
                </a:moveTo>
                <a:cubicBezTo>
                  <a:pt x="9919" y="4446"/>
                  <a:pt x="9922" y="4500"/>
                  <a:pt x="9922" y="4589"/>
                </a:cubicBezTo>
                <a:cubicBezTo>
                  <a:pt x="9922" y="4706"/>
                  <a:pt x="9947" y="4817"/>
                  <a:pt x="9947" y="4936"/>
                </a:cubicBezTo>
                <a:cubicBezTo>
                  <a:pt x="9947" y="5022"/>
                  <a:pt x="9983" y="5080"/>
                  <a:pt x="9996" y="5159"/>
                </a:cubicBezTo>
                <a:cubicBezTo>
                  <a:pt x="10006" y="5218"/>
                  <a:pt x="10033" y="5256"/>
                  <a:pt x="10046" y="5308"/>
                </a:cubicBezTo>
                <a:cubicBezTo>
                  <a:pt x="10037" y="5254"/>
                  <a:pt x="10025" y="5232"/>
                  <a:pt x="9996" y="5184"/>
                </a:cubicBezTo>
                <a:cubicBezTo>
                  <a:pt x="9949" y="5107"/>
                  <a:pt x="9925" y="5063"/>
                  <a:pt x="9847" y="5011"/>
                </a:cubicBezTo>
                <a:cubicBezTo>
                  <a:pt x="9796" y="4977"/>
                  <a:pt x="9683" y="4972"/>
                  <a:pt x="9624" y="4986"/>
                </a:cubicBezTo>
                <a:cubicBezTo>
                  <a:pt x="9552" y="5003"/>
                  <a:pt x="9501" y="5060"/>
                  <a:pt x="9451" y="5110"/>
                </a:cubicBezTo>
                <a:cubicBezTo>
                  <a:pt x="9408" y="5153"/>
                  <a:pt x="9341" y="5239"/>
                  <a:pt x="9376" y="5308"/>
                </a:cubicBezTo>
                <a:cubicBezTo>
                  <a:pt x="9397" y="5349"/>
                  <a:pt x="9486" y="5356"/>
                  <a:pt x="9525" y="5358"/>
                </a:cubicBezTo>
                <a:cubicBezTo>
                  <a:pt x="9623" y="5362"/>
                  <a:pt x="9729" y="5354"/>
                  <a:pt x="9823" y="5333"/>
                </a:cubicBezTo>
                <a:cubicBezTo>
                  <a:pt x="9900" y="5307"/>
                  <a:pt x="9928" y="5297"/>
                  <a:pt x="9971" y="5259"/>
                </a:cubicBezTo>
              </a:path>
              <a:path w="3573" h="1166">
                <a:moveTo>
                  <a:pt x="10319" y="5060"/>
                </a:moveTo>
                <a:cubicBezTo>
                  <a:pt x="10304" y="5212"/>
                  <a:pt x="10248" y="5303"/>
                  <a:pt x="10344" y="5407"/>
                </a:cubicBezTo>
                <a:cubicBezTo>
                  <a:pt x="10405" y="5473"/>
                  <a:pt x="10453" y="5466"/>
                  <a:pt x="10517" y="5457"/>
                </a:cubicBezTo>
                <a:cubicBezTo>
                  <a:pt x="10587" y="5448"/>
                  <a:pt x="10624" y="5412"/>
                  <a:pt x="10641" y="5333"/>
                </a:cubicBezTo>
                <a:cubicBezTo>
                  <a:pt x="10661" y="5241"/>
                  <a:pt x="10632" y="5180"/>
                  <a:pt x="10592" y="5110"/>
                </a:cubicBezTo>
                <a:cubicBezTo>
                  <a:pt x="10564" y="5062"/>
                  <a:pt x="10503" y="5000"/>
                  <a:pt x="10443" y="4986"/>
                </a:cubicBezTo>
                <a:cubicBezTo>
                  <a:pt x="10407" y="4978"/>
                  <a:pt x="10315" y="4971"/>
                  <a:pt x="10294" y="5011"/>
                </a:cubicBezTo>
                <a:cubicBezTo>
                  <a:pt x="10278" y="5042"/>
                  <a:pt x="10304" y="5065"/>
                  <a:pt x="10319" y="5085"/>
                </a:cubicBezTo>
              </a:path>
              <a:path w="3573" h="1166">
                <a:moveTo>
                  <a:pt x="10740" y="5209"/>
                </a:moveTo>
                <a:cubicBezTo>
                  <a:pt x="10761" y="5269"/>
                  <a:pt x="10796" y="5433"/>
                  <a:pt x="10864" y="5482"/>
                </a:cubicBezTo>
                <a:cubicBezTo>
                  <a:pt x="10905" y="5512"/>
                  <a:pt x="10960" y="5548"/>
                  <a:pt x="11013" y="5531"/>
                </a:cubicBezTo>
                <a:cubicBezTo>
                  <a:pt x="11057" y="5510"/>
                  <a:pt x="11069" y="5507"/>
                  <a:pt x="11088" y="5482"/>
                </a:cubicBezTo>
              </a:path>
              <a:path w="3573" h="1166">
                <a:moveTo>
                  <a:pt x="11162" y="5234"/>
                </a:moveTo>
                <a:cubicBezTo>
                  <a:pt x="11162" y="5163"/>
                  <a:pt x="11158" y="5276"/>
                  <a:pt x="11162" y="5283"/>
                </a:cubicBezTo>
                <a:cubicBezTo>
                  <a:pt x="11187" y="5327"/>
                  <a:pt x="11204" y="5364"/>
                  <a:pt x="11261" y="5383"/>
                </a:cubicBezTo>
                <a:cubicBezTo>
                  <a:pt x="11311" y="5400"/>
                  <a:pt x="11362" y="5412"/>
                  <a:pt x="11410" y="5383"/>
                </a:cubicBezTo>
                <a:cubicBezTo>
                  <a:pt x="11476" y="5344"/>
                  <a:pt x="11418" y="5257"/>
                  <a:pt x="11410" y="5209"/>
                </a:cubicBezTo>
                <a:cubicBezTo>
                  <a:pt x="11395" y="5119"/>
                  <a:pt x="11349" y="5110"/>
                  <a:pt x="11311" y="5035"/>
                </a:cubicBezTo>
                <a:cubicBezTo>
                  <a:pt x="11311" y="5011"/>
                  <a:pt x="11311" y="5003"/>
                  <a:pt x="11286" y="5011"/>
                </a:cubicBezTo>
              </a:path>
              <a:path w="3573" h="1166">
                <a:moveTo>
                  <a:pt x="11609" y="5308"/>
                </a:moveTo>
                <a:cubicBezTo>
                  <a:pt x="11647" y="5385"/>
                  <a:pt x="11646" y="5400"/>
                  <a:pt x="11683" y="5432"/>
                </a:cubicBezTo>
                <a:cubicBezTo>
                  <a:pt x="11683" y="5363"/>
                  <a:pt x="11652" y="5268"/>
                  <a:pt x="11658" y="5209"/>
                </a:cubicBezTo>
                <a:cubicBezTo>
                  <a:pt x="11666" y="5122"/>
                  <a:pt x="11711" y="5092"/>
                  <a:pt x="11757" y="5035"/>
                </a:cubicBezTo>
                <a:cubicBezTo>
                  <a:pt x="11806" y="4975"/>
                  <a:pt x="11890" y="4965"/>
                  <a:pt x="11956" y="5035"/>
                </a:cubicBezTo>
                <a:cubicBezTo>
                  <a:pt x="12015" y="5098"/>
                  <a:pt x="12065" y="5207"/>
                  <a:pt x="12105" y="5283"/>
                </a:cubicBezTo>
                <a:cubicBezTo>
                  <a:pt x="12126" y="5324"/>
                  <a:pt x="12108" y="5414"/>
                  <a:pt x="12154" y="5407"/>
                </a:cubicBezTo>
                <a:cubicBezTo>
                  <a:pt x="12162" y="5399"/>
                  <a:pt x="12171" y="5391"/>
                  <a:pt x="12179" y="5383"/>
                </a:cubicBezTo>
              </a:path>
              <a:path w="3573" h="1166">
                <a:moveTo>
                  <a:pt x="12477" y="4663"/>
                </a:moveTo>
                <a:cubicBezTo>
                  <a:pt x="12585" y="4663"/>
                  <a:pt x="12643" y="4642"/>
                  <a:pt x="12700" y="4738"/>
                </a:cubicBezTo>
                <a:cubicBezTo>
                  <a:pt x="12732" y="4792"/>
                  <a:pt x="12740" y="4838"/>
                  <a:pt x="12700" y="4887"/>
                </a:cubicBezTo>
                <a:cubicBezTo>
                  <a:pt x="12681" y="4911"/>
                  <a:pt x="12610" y="4949"/>
                  <a:pt x="12626" y="4986"/>
                </a:cubicBezTo>
                <a:cubicBezTo>
                  <a:pt x="12677" y="5105"/>
                  <a:pt x="12817" y="5160"/>
                  <a:pt x="12898" y="5259"/>
                </a:cubicBezTo>
                <a:cubicBezTo>
                  <a:pt x="12957" y="5330"/>
                  <a:pt x="12947" y="5385"/>
                  <a:pt x="12898" y="5457"/>
                </a:cubicBezTo>
                <a:cubicBezTo>
                  <a:pt x="12871" y="5496"/>
                  <a:pt x="12771" y="5504"/>
                  <a:pt x="12725" y="5507"/>
                </a:cubicBezTo>
                <a:cubicBezTo>
                  <a:pt x="12654" y="5511"/>
                  <a:pt x="12594" y="5529"/>
                  <a:pt x="12526" y="5531"/>
                </a:cubicBezTo>
                <a:cubicBezTo>
                  <a:pt x="12485" y="5531"/>
                  <a:pt x="12443" y="5531"/>
                  <a:pt x="12402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03720" y="2394000"/>
            <a:ext cx="2090520" cy="704880"/>
          </a:xfrm>
          <a:custGeom>
            <a:avLst/>
            <a:gdLst/>
            <a:ahLst/>
            <a:rect l="l" t="t" r="r" b="b"/>
            <a:pathLst>
              <a:path w="5805" h="1960">
                <a:moveTo>
                  <a:pt x="9227" y="7516"/>
                </a:moveTo>
                <a:cubicBezTo>
                  <a:pt x="9246" y="7567"/>
                  <a:pt x="9252" y="7586"/>
                  <a:pt x="9252" y="7640"/>
                </a:cubicBezTo>
                <a:cubicBezTo>
                  <a:pt x="9310" y="7621"/>
                  <a:pt x="9261" y="7604"/>
                  <a:pt x="9252" y="7565"/>
                </a:cubicBezTo>
                <a:cubicBezTo>
                  <a:pt x="9236" y="7492"/>
                  <a:pt x="9190" y="7415"/>
                  <a:pt x="9178" y="7342"/>
                </a:cubicBezTo>
                <a:cubicBezTo>
                  <a:pt x="9165" y="7264"/>
                  <a:pt x="9179" y="7159"/>
                  <a:pt x="9227" y="7094"/>
                </a:cubicBezTo>
                <a:cubicBezTo>
                  <a:pt x="9264" y="7044"/>
                  <a:pt x="9364" y="6984"/>
                  <a:pt x="9426" y="6970"/>
                </a:cubicBezTo>
                <a:cubicBezTo>
                  <a:pt x="9485" y="6957"/>
                  <a:pt x="9563" y="6970"/>
                  <a:pt x="9624" y="6970"/>
                </a:cubicBezTo>
              </a:path>
              <a:path w="5805" h="1960">
                <a:moveTo>
                  <a:pt x="9624" y="7342"/>
                </a:moveTo>
                <a:cubicBezTo>
                  <a:pt x="9702" y="7371"/>
                  <a:pt x="9745" y="7377"/>
                  <a:pt x="9823" y="7342"/>
                </a:cubicBezTo>
                <a:cubicBezTo>
                  <a:pt x="9866" y="7320"/>
                  <a:pt x="9877" y="7316"/>
                  <a:pt x="9897" y="7293"/>
                </a:cubicBezTo>
              </a:path>
              <a:path w="5805" h="1960">
                <a:moveTo>
                  <a:pt x="9947" y="7119"/>
                </a:moveTo>
                <a:cubicBezTo>
                  <a:pt x="9830" y="7109"/>
                  <a:pt x="9779" y="7141"/>
                  <a:pt x="9699" y="7243"/>
                </a:cubicBezTo>
                <a:cubicBezTo>
                  <a:pt x="9641" y="7316"/>
                  <a:pt x="9618" y="7407"/>
                  <a:pt x="9649" y="7491"/>
                </a:cubicBezTo>
                <a:cubicBezTo>
                  <a:pt x="9689" y="7599"/>
                  <a:pt x="9724" y="7590"/>
                  <a:pt x="9823" y="7615"/>
                </a:cubicBezTo>
                <a:cubicBezTo>
                  <a:pt x="9897" y="7640"/>
                  <a:pt x="9922" y="7648"/>
                  <a:pt x="9971" y="7615"/>
                </a:cubicBezTo>
              </a:path>
              <a:path w="5805" h="1960">
                <a:moveTo>
                  <a:pt x="10418" y="6697"/>
                </a:moveTo>
                <a:cubicBezTo>
                  <a:pt x="10343" y="6772"/>
                  <a:pt x="10285" y="6834"/>
                  <a:pt x="10269" y="6945"/>
                </a:cubicBezTo>
                <a:cubicBezTo>
                  <a:pt x="10254" y="7045"/>
                  <a:pt x="10272" y="7171"/>
                  <a:pt x="10294" y="7268"/>
                </a:cubicBezTo>
                <a:cubicBezTo>
                  <a:pt x="10313" y="7355"/>
                  <a:pt x="10353" y="7437"/>
                  <a:pt x="10393" y="7516"/>
                </a:cubicBezTo>
                <a:cubicBezTo>
                  <a:pt x="10414" y="7558"/>
                  <a:pt x="10448" y="7602"/>
                  <a:pt x="10393" y="7565"/>
                </a:cubicBezTo>
              </a:path>
              <a:path w="5805" h="1960">
                <a:moveTo>
                  <a:pt x="10096" y="7293"/>
                </a:moveTo>
                <a:cubicBezTo>
                  <a:pt x="10242" y="7286"/>
                  <a:pt x="10332" y="7264"/>
                  <a:pt x="10468" y="7218"/>
                </a:cubicBezTo>
                <a:cubicBezTo>
                  <a:pt x="10493" y="7210"/>
                  <a:pt x="10517" y="7201"/>
                  <a:pt x="10542" y="7193"/>
                </a:cubicBezTo>
              </a:path>
              <a:path w="5805" h="1960">
                <a:moveTo>
                  <a:pt x="10840" y="6648"/>
                </a:moveTo>
                <a:cubicBezTo>
                  <a:pt x="10819" y="6800"/>
                  <a:pt x="10815" y="6940"/>
                  <a:pt x="10815" y="7094"/>
                </a:cubicBezTo>
                <a:cubicBezTo>
                  <a:pt x="10815" y="7215"/>
                  <a:pt x="10849" y="7324"/>
                  <a:pt x="10864" y="7441"/>
                </a:cubicBezTo>
                <a:cubicBezTo>
                  <a:pt x="10871" y="7494"/>
                  <a:pt x="10889" y="7536"/>
                  <a:pt x="10889" y="7590"/>
                </a:cubicBezTo>
              </a:path>
              <a:path w="5805" h="1960">
                <a:moveTo>
                  <a:pt x="11063" y="7367"/>
                </a:moveTo>
                <a:cubicBezTo>
                  <a:pt x="11127" y="7353"/>
                  <a:pt x="11260" y="7348"/>
                  <a:pt x="11311" y="7293"/>
                </a:cubicBezTo>
                <a:cubicBezTo>
                  <a:pt x="11349" y="7253"/>
                  <a:pt x="11351" y="7198"/>
                  <a:pt x="11336" y="7169"/>
                </a:cubicBezTo>
                <a:cubicBezTo>
                  <a:pt x="11276" y="7149"/>
                  <a:pt x="11220" y="7170"/>
                  <a:pt x="11162" y="7218"/>
                </a:cubicBezTo>
                <a:cubicBezTo>
                  <a:pt x="11111" y="7260"/>
                  <a:pt x="11053" y="7352"/>
                  <a:pt x="11038" y="7417"/>
                </a:cubicBezTo>
                <a:cubicBezTo>
                  <a:pt x="11028" y="7462"/>
                  <a:pt x="11075" y="7538"/>
                  <a:pt x="11112" y="7565"/>
                </a:cubicBezTo>
                <a:cubicBezTo>
                  <a:pt x="11160" y="7599"/>
                  <a:pt x="11205" y="7590"/>
                  <a:pt x="11261" y="7590"/>
                </a:cubicBezTo>
              </a:path>
              <a:path w="5805" h="1960">
                <a:moveTo>
                  <a:pt x="11559" y="7193"/>
                </a:moveTo>
                <a:cubicBezTo>
                  <a:pt x="11500" y="7286"/>
                  <a:pt x="11437" y="7355"/>
                  <a:pt x="11485" y="7466"/>
                </a:cubicBezTo>
                <a:cubicBezTo>
                  <a:pt x="11515" y="7537"/>
                  <a:pt x="11559" y="7561"/>
                  <a:pt x="11633" y="7565"/>
                </a:cubicBezTo>
                <a:cubicBezTo>
                  <a:pt x="11695" y="7568"/>
                  <a:pt x="11725" y="7562"/>
                  <a:pt x="11782" y="7541"/>
                </a:cubicBezTo>
              </a:path>
              <a:path w="5805" h="1960">
                <a:moveTo>
                  <a:pt x="11931" y="6772"/>
                </a:moveTo>
                <a:cubicBezTo>
                  <a:pt x="11869" y="6813"/>
                  <a:pt x="11883" y="6993"/>
                  <a:pt x="11881" y="7069"/>
                </a:cubicBezTo>
                <a:cubicBezTo>
                  <a:pt x="11878" y="7184"/>
                  <a:pt x="11891" y="7283"/>
                  <a:pt x="11906" y="7392"/>
                </a:cubicBezTo>
                <a:cubicBezTo>
                  <a:pt x="11913" y="7444"/>
                  <a:pt x="11928" y="7501"/>
                  <a:pt x="11956" y="7541"/>
                </a:cubicBezTo>
                <a:cubicBezTo>
                  <a:pt x="11964" y="7549"/>
                  <a:pt x="11973" y="7557"/>
                  <a:pt x="11981" y="7565"/>
                </a:cubicBezTo>
              </a:path>
              <a:path w="5805" h="1960">
                <a:moveTo>
                  <a:pt x="11782" y="7193"/>
                </a:moveTo>
                <a:cubicBezTo>
                  <a:pt x="11910" y="7193"/>
                  <a:pt x="12030" y="7199"/>
                  <a:pt x="12154" y="7169"/>
                </a:cubicBezTo>
              </a:path>
              <a:path w="5805" h="1960">
                <a:moveTo>
                  <a:pt x="12526" y="7317"/>
                </a:moveTo>
                <a:cubicBezTo>
                  <a:pt x="12506" y="7427"/>
                  <a:pt x="12478" y="7461"/>
                  <a:pt x="12551" y="7541"/>
                </a:cubicBezTo>
                <a:cubicBezTo>
                  <a:pt x="12569" y="7561"/>
                  <a:pt x="12680" y="7590"/>
                  <a:pt x="12700" y="7565"/>
                </a:cubicBezTo>
                <a:cubicBezTo>
                  <a:pt x="12765" y="7483"/>
                  <a:pt x="12808" y="7388"/>
                  <a:pt x="12750" y="7293"/>
                </a:cubicBezTo>
                <a:cubicBezTo>
                  <a:pt x="12722" y="7248"/>
                  <a:pt x="12665" y="7225"/>
                  <a:pt x="12626" y="7193"/>
                </a:cubicBezTo>
              </a:path>
              <a:path w="5805" h="1960">
                <a:moveTo>
                  <a:pt x="12874" y="7392"/>
                </a:moveTo>
                <a:cubicBezTo>
                  <a:pt x="12931" y="7483"/>
                  <a:pt x="12927" y="7541"/>
                  <a:pt x="13022" y="7541"/>
                </a:cubicBezTo>
                <a:cubicBezTo>
                  <a:pt x="13096" y="7541"/>
                  <a:pt x="13058" y="7487"/>
                  <a:pt x="13072" y="7441"/>
                </a:cubicBezTo>
                <a:cubicBezTo>
                  <a:pt x="13094" y="7367"/>
                  <a:pt x="13106" y="7293"/>
                  <a:pt x="13122" y="7218"/>
                </a:cubicBezTo>
                <a:cubicBezTo>
                  <a:pt x="13124" y="7207"/>
                  <a:pt x="13151" y="7118"/>
                  <a:pt x="13171" y="7144"/>
                </a:cubicBezTo>
                <a:cubicBezTo>
                  <a:pt x="13171" y="7169"/>
                  <a:pt x="13171" y="7177"/>
                  <a:pt x="13196" y="7169"/>
                </a:cubicBezTo>
              </a:path>
              <a:path w="5805" h="1960">
                <a:moveTo>
                  <a:pt x="13370" y="7342"/>
                </a:moveTo>
                <a:cubicBezTo>
                  <a:pt x="13389" y="7342"/>
                  <a:pt x="13508" y="7346"/>
                  <a:pt x="13519" y="7317"/>
                </a:cubicBezTo>
                <a:cubicBezTo>
                  <a:pt x="13526" y="7297"/>
                  <a:pt x="13561" y="7195"/>
                  <a:pt x="13543" y="7169"/>
                </a:cubicBezTo>
                <a:cubicBezTo>
                  <a:pt x="13519" y="7135"/>
                  <a:pt x="13452" y="7156"/>
                  <a:pt x="13419" y="7169"/>
                </a:cubicBezTo>
                <a:cubicBezTo>
                  <a:pt x="13332" y="7203"/>
                  <a:pt x="13311" y="7236"/>
                  <a:pt x="13271" y="7317"/>
                </a:cubicBezTo>
                <a:cubicBezTo>
                  <a:pt x="13229" y="7401"/>
                  <a:pt x="13255" y="7437"/>
                  <a:pt x="13295" y="7516"/>
                </a:cubicBezTo>
                <a:cubicBezTo>
                  <a:pt x="13332" y="7589"/>
                  <a:pt x="13391" y="7609"/>
                  <a:pt x="13469" y="7615"/>
                </a:cubicBezTo>
                <a:cubicBezTo>
                  <a:pt x="13502" y="7615"/>
                  <a:pt x="13518" y="7615"/>
                  <a:pt x="13543" y="7615"/>
                </a:cubicBezTo>
              </a:path>
              <a:path w="5805" h="1960">
                <a:moveTo>
                  <a:pt x="13667" y="7342"/>
                </a:moveTo>
                <a:cubicBezTo>
                  <a:pt x="13667" y="7433"/>
                  <a:pt x="13668" y="7471"/>
                  <a:pt x="13692" y="7541"/>
                </a:cubicBezTo>
                <a:cubicBezTo>
                  <a:pt x="13692" y="7549"/>
                  <a:pt x="13692" y="7557"/>
                  <a:pt x="13692" y="7565"/>
                </a:cubicBezTo>
                <a:cubicBezTo>
                  <a:pt x="13720" y="7556"/>
                  <a:pt x="13739" y="7532"/>
                  <a:pt x="13742" y="7491"/>
                </a:cubicBezTo>
                <a:cubicBezTo>
                  <a:pt x="13748" y="7407"/>
                  <a:pt x="13739" y="7362"/>
                  <a:pt x="13791" y="7293"/>
                </a:cubicBezTo>
                <a:cubicBezTo>
                  <a:pt x="13838" y="7230"/>
                  <a:pt x="13920" y="7221"/>
                  <a:pt x="13990" y="7218"/>
                </a:cubicBezTo>
                <a:cubicBezTo>
                  <a:pt x="14006" y="7218"/>
                  <a:pt x="14023" y="7218"/>
                  <a:pt x="14039" y="7218"/>
                </a:cubicBezTo>
              </a:path>
              <a:path w="5805" h="1960">
                <a:moveTo>
                  <a:pt x="14387" y="7367"/>
                </a:moveTo>
                <a:cubicBezTo>
                  <a:pt x="14395" y="7543"/>
                  <a:pt x="14374" y="7574"/>
                  <a:pt x="14511" y="7665"/>
                </a:cubicBezTo>
                <a:cubicBezTo>
                  <a:pt x="14575" y="7707"/>
                  <a:pt x="14661" y="7689"/>
                  <a:pt x="14734" y="7689"/>
                </a:cubicBezTo>
              </a:path>
              <a:path w="5805" h="1960">
                <a:moveTo>
                  <a:pt x="14982" y="7317"/>
                </a:moveTo>
                <a:cubicBezTo>
                  <a:pt x="14963" y="7394"/>
                  <a:pt x="14957" y="7458"/>
                  <a:pt x="14957" y="7541"/>
                </a:cubicBezTo>
                <a:cubicBezTo>
                  <a:pt x="14957" y="7675"/>
                  <a:pt x="14950" y="7829"/>
                  <a:pt x="14932" y="7962"/>
                </a:cubicBezTo>
                <a:cubicBezTo>
                  <a:pt x="14915" y="8089"/>
                  <a:pt x="14898" y="8211"/>
                  <a:pt x="14858" y="8334"/>
                </a:cubicBezTo>
                <a:cubicBezTo>
                  <a:pt x="14829" y="8425"/>
                  <a:pt x="14753" y="8519"/>
                  <a:pt x="14660" y="8558"/>
                </a:cubicBezTo>
                <a:cubicBezTo>
                  <a:pt x="14514" y="8618"/>
                  <a:pt x="14413" y="8592"/>
                  <a:pt x="14263" y="8582"/>
                </a:cubicBezTo>
                <a:cubicBezTo>
                  <a:pt x="14131" y="8582"/>
                  <a:pt x="14081" y="8582"/>
                  <a:pt x="13990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960" y="2928960"/>
            <a:ext cx="2152800" cy="401760"/>
          </a:xfrm>
          <a:custGeom>
            <a:avLst/>
            <a:gdLst/>
            <a:ahLst/>
            <a:rect l="l" t="t" r="r" b="b"/>
            <a:pathLst>
              <a:path w="5979" h="1117">
                <a:moveTo>
                  <a:pt x="7913" y="8508"/>
                </a:moveTo>
                <a:cubicBezTo>
                  <a:pt x="7954" y="8549"/>
                  <a:pt x="7984" y="8580"/>
                  <a:pt x="8012" y="8632"/>
                </a:cubicBezTo>
                <a:cubicBezTo>
                  <a:pt x="8053" y="8709"/>
                  <a:pt x="8071" y="8796"/>
                  <a:pt x="8086" y="8880"/>
                </a:cubicBezTo>
                <a:cubicBezTo>
                  <a:pt x="8092" y="8912"/>
                  <a:pt x="8102" y="8987"/>
                  <a:pt x="8136" y="9004"/>
                </a:cubicBezTo>
                <a:cubicBezTo>
                  <a:pt x="8177" y="9024"/>
                  <a:pt x="8208" y="8990"/>
                  <a:pt x="8210" y="8954"/>
                </a:cubicBezTo>
                <a:cubicBezTo>
                  <a:pt x="8214" y="8870"/>
                  <a:pt x="8189" y="8810"/>
                  <a:pt x="8186" y="8731"/>
                </a:cubicBezTo>
                <a:cubicBezTo>
                  <a:pt x="8183" y="8661"/>
                  <a:pt x="8185" y="8596"/>
                  <a:pt x="8210" y="8533"/>
                </a:cubicBezTo>
                <a:cubicBezTo>
                  <a:pt x="8222" y="8503"/>
                  <a:pt x="8246" y="8441"/>
                  <a:pt x="8260" y="8434"/>
                </a:cubicBezTo>
                <a:cubicBezTo>
                  <a:pt x="8268" y="8434"/>
                  <a:pt x="8277" y="8434"/>
                  <a:pt x="8285" y="8434"/>
                </a:cubicBezTo>
              </a:path>
              <a:path w="5979" h="1117">
                <a:moveTo>
                  <a:pt x="8483" y="8781"/>
                </a:moveTo>
                <a:cubicBezTo>
                  <a:pt x="8560" y="8758"/>
                  <a:pt x="8579" y="8758"/>
                  <a:pt x="8632" y="8706"/>
                </a:cubicBezTo>
                <a:cubicBezTo>
                  <a:pt x="8664" y="8675"/>
                  <a:pt x="8660" y="8644"/>
                  <a:pt x="8682" y="8607"/>
                </a:cubicBezTo>
              </a:path>
              <a:path w="5979" h="1117">
                <a:moveTo>
                  <a:pt x="8632" y="8508"/>
                </a:moveTo>
                <a:cubicBezTo>
                  <a:pt x="8544" y="8508"/>
                  <a:pt x="8518" y="8498"/>
                  <a:pt x="8458" y="8558"/>
                </a:cubicBezTo>
                <a:cubicBezTo>
                  <a:pt x="8436" y="8580"/>
                  <a:pt x="8400" y="8674"/>
                  <a:pt x="8409" y="8706"/>
                </a:cubicBezTo>
                <a:cubicBezTo>
                  <a:pt x="8426" y="8769"/>
                  <a:pt x="8438" y="8830"/>
                  <a:pt x="8483" y="8880"/>
                </a:cubicBezTo>
                <a:cubicBezTo>
                  <a:pt x="8531" y="8934"/>
                  <a:pt x="8581" y="8928"/>
                  <a:pt x="8632" y="8954"/>
                </a:cubicBezTo>
                <a:cubicBezTo>
                  <a:pt x="8655" y="8977"/>
                  <a:pt x="8659" y="8985"/>
                  <a:pt x="8682" y="8979"/>
                </a:cubicBezTo>
              </a:path>
              <a:path w="5979" h="1117">
                <a:moveTo>
                  <a:pt x="8830" y="8756"/>
                </a:moveTo>
                <a:cubicBezTo>
                  <a:pt x="8840" y="8808"/>
                  <a:pt x="8849" y="8909"/>
                  <a:pt x="8880" y="8954"/>
                </a:cubicBezTo>
                <a:cubicBezTo>
                  <a:pt x="8888" y="8962"/>
                  <a:pt x="8897" y="8971"/>
                  <a:pt x="8905" y="8979"/>
                </a:cubicBezTo>
                <a:cubicBezTo>
                  <a:pt x="8905" y="8924"/>
                  <a:pt x="8883" y="8885"/>
                  <a:pt x="8880" y="8830"/>
                </a:cubicBezTo>
                <a:cubicBezTo>
                  <a:pt x="8874" y="8723"/>
                  <a:pt x="8881" y="8676"/>
                  <a:pt x="8930" y="8582"/>
                </a:cubicBezTo>
                <a:cubicBezTo>
                  <a:pt x="8974" y="8497"/>
                  <a:pt x="8984" y="8518"/>
                  <a:pt x="9054" y="8483"/>
                </a:cubicBezTo>
                <a:cubicBezTo>
                  <a:pt x="9095" y="8462"/>
                  <a:pt x="9129" y="8452"/>
                  <a:pt x="9178" y="8434"/>
                </a:cubicBezTo>
              </a:path>
              <a:path w="5979" h="1117">
                <a:moveTo>
                  <a:pt x="9351" y="8384"/>
                </a:moveTo>
                <a:cubicBezTo>
                  <a:pt x="9370" y="8491"/>
                  <a:pt x="9376" y="8575"/>
                  <a:pt x="9376" y="8682"/>
                </a:cubicBezTo>
                <a:cubicBezTo>
                  <a:pt x="9376" y="8773"/>
                  <a:pt x="9403" y="8854"/>
                  <a:pt x="9426" y="8930"/>
                </a:cubicBezTo>
                <a:cubicBezTo>
                  <a:pt x="9426" y="8938"/>
                  <a:pt x="9426" y="8946"/>
                  <a:pt x="9426" y="8954"/>
                </a:cubicBezTo>
              </a:path>
              <a:path w="5979" h="1117">
                <a:moveTo>
                  <a:pt x="9178" y="8657"/>
                </a:moveTo>
                <a:cubicBezTo>
                  <a:pt x="9225" y="8622"/>
                  <a:pt x="9265" y="8632"/>
                  <a:pt x="9327" y="8632"/>
                </a:cubicBezTo>
                <a:cubicBezTo>
                  <a:pt x="9409" y="8632"/>
                  <a:pt x="9442" y="8632"/>
                  <a:pt x="9500" y="8632"/>
                </a:cubicBezTo>
              </a:path>
              <a:path w="5979" h="1117">
                <a:moveTo>
                  <a:pt x="9649" y="8607"/>
                </a:moveTo>
                <a:cubicBezTo>
                  <a:pt x="9668" y="8697"/>
                  <a:pt x="9674" y="8764"/>
                  <a:pt x="9674" y="8855"/>
                </a:cubicBezTo>
                <a:cubicBezTo>
                  <a:pt x="9674" y="8881"/>
                  <a:pt x="9699" y="8987"/>
                  <a:pt x="9699" y="8880"/>
                </a:cubicBezTo>
              </a:path>
              <a:path w="5979" h="1117">
                <a:moveTo>
                  <a:pt x="9649" y="8384"/>
                </a:moveTo>
                <a:cubicBezTo>
                  <a:pt x="9657" y="8376"/>
                  <a:pt x="9666" y="8367"/>
                  <a:pt x="9674" y="8359"/>
                </a:cubicBezTo>
              </a:path>
              <a:path w="5979" h="1117">
                <a:moveTo>
                  <a:pt x="10096" y="8558"/>
                </a:moveTo>
                <a:cubicBezTo>
                  <a:pt x="10120" y="8616"/>
                  <a:pt x="10116" y="8650"/>
                  <a:pt x="10096" y="8607"/>
                </a:cubicBezTo>
                <a:cubicBezTo>
                  <a:pt x="10096" y="8599"/>
                  <a:pt x="10096" y="8590"/>
                  <a:pt x="10096" y="8582"/>
                </a:cubicBezTo>
              </a:path>
              <a:path w="5979" h="1117">
                <a:moveTo>
                  <a:pt x="10096" y="8558"/>
                </a:moveTo>
                <a:cubicBezTo>
                  <a:pt x="10088" y="8558"/>
                  <a:pt x="10079" y="8558"/>
                  <a:pt x="10071" y="8558"/>
                </a:cubicBezTo>
              </a:path>
              <a:path w="5979" h="1117">
                <a:moveTo>
                  <a:pt x="10071" y="8558"/>
                </a:moveTo>
                <a:cubicBezTo>
                  <a:pt x="10019" y="8558"/>
                  <a:pt x="10008" y="8569"/>
                  <a:pt x="9971" y="8607"/>
                </a:cubicBezTo>
                <a:cubicBezTo>
                  <a:pt x="9929" y="8650"/>
                  <a:pt x="9906" y="8722"/>
                  <a:pt x="9897" y="8781"/>
                </a:cubicBezTo>
                <a:cubicBezTo>
                  <a:pt x="9883" y="8876"/>
                  <a:pt x="9908" y="8921"/>
                  <a:pt x="9971" y="8979"/>
                </a:cubicBezTo>
                <a:cubicBezTo>
                  <a:pt x="10024" y="9028"/>
                  <a:pt x="10076" y="9045"/>
                  <a:pt x="10145" y="9054"/>
                </a:cubicBezTo>
              </a:path>
              <a:path w="5979" h="1117">
                <a:moveTo>
                  <a:pt x="10443" y="8657"/>
                </a:moveTo>
                <a:cubicBezTo>
                  <a:pt x="10415" y="8615"/>
                  <a:pt x="10376" y="8570"/>
                  <a:pt x="10319" y="8632"/>
                </a:cubicBezTo>
                <a:cubicBezTo>
                  <a:pt x="10251" y="8706"/>
                  <a:pt x="10220" y="8756"/>
                  <a:pt x="10220" y="8855"/>
                </a:cubicBezTo>
                <a:cubicBezTo>
                  <a:pt x="10220" y="8922"/>
                  <a:pt x="10252" y="8946"/>
                  <a:pt x="10294" y="8979"/>
                </a:cubicBezTo>
                <a:cubicBezTo>
                  <a:pt x="10331" y="9008"/>
                  <a:pt x="10356" y="8986"/>
                  <a:pt x="10393" y="8954"/>
                </a:cubicBezTo>
                <a:cubicBezTo>
                  <a:pt x="10433" y="8919"/>
                  <a:pt x="10439" y="8857"/>
                  <a:pt x="10443" y="8806"/>
                </a:cubicBezTo>
                <a:cubicBezTo>
                  <a:pt x="10447" y="8751"/>
                  <a:pt x="10461" y="8752"/>
                  <a:pt x="10443" y="8706"/>
                </a:cubicBezTo>
                <a:cubicBezTo>
                  <a:pt x="10455" y="8742"/>
                  <a:pt x="10468" y="8747"/>
                  <a:pt x="10468" y="8806"/>
                </a:cubicBezTo>
                <a:cubicBezTo>
                  <a:pt x="10468" y="8887"/>
                  <a:pt x="10486" y="8944"/>
                  <a:pt x="10542" y="9004"/>
                </a:cubicBezTo>
                <a:cubicBezTo>
                  <a:pt x="10590" y="9055"/>
                  <a:pt x="10601" y="9079"/>
                  <a:pt x="10666" y="9079"/>
                </a:cubicBezTo>
              </a:path>
              <a:path w="5979" h="1117">
                <a:moveTo>
                  <a:pt x="10691" y="8136"/>
                </a:moveTo>
                <a:cubicBezTo>
                  <a:pt x="10715" y="8255"/>
                  <a:pt x="10700" y="8364"/>
                  <a:pt x="10716" y="8483"/>
                </a:cubicBezTo>
                <a:cubicBezTo>
                  <a:pt x="10732" y="8600"/>
                  <a:pt x="10773" y="8714"/>
                  <a:pt x="10790" y="8830"/>
                </a:cubicBezTo>
                <a:cubicBezTo>
                  <a:pt x="10801" y="8907"/>
                  <a:pt x="10789" y="9043"/>
                  <a:pt x="10889" y="9054"/>
                </a:cubicBezTo>
                <a:cubicBezTo>
                  <a:pt x="10897" y="9054"/>
                  <a:pt x="10906" y="9054"/>
                  <a:pt x="10914" y="9054"/>
                </a:cubicBezTo>
              </a:path>
              <a:path w="5979" h="1117">
                <a:moveTo>
                  <a:pt x="11361" y="8533"/>
                </a:moveTo>
                <a:cubicBezTo>
                  <a:pt x="11274" y="8524"/>
                  <a:pt x="11266" y="8517"/>
                  <a:pt x="11187" y="8533"/>
                </a:cubicBezTo>
                <a:cubicBezTo>
                  <a:pt x="11187" y="8586"/>
                  <a:pt x="11203" y="8638"/>
                  <a:pt x="11237" y="8682"/>
                </a:cubicBezTo>
                <a:cubicBezTo>
                  <a:pt x="11307" y="8772"/>
                  <a:pt x="11385" y="8847"/>
                  <a:pt x="11460" y="8930"/>
                </a:cubicBezTo>
                <a:cubicBezTo>
                  <a:pt x="11500" y="8974"/>
                  <a:pt x="11575" y="9083"/>
                  <a:pt x="11509" y="9128"/>
                </a:cubicBezTo>
                <a:cubicBezTo>
                  <a:pt x="11476" y="9151"/>
                  <a:pt x="11389" y="9121"/>
                  <a:pt x="11361" y="9103"/>
                </a:cubicBezTo>
                <a:cubicBezTo>
                  <a:pt x="11328" y="9081"/>
                  <a:pt x="11270" y="9013"/>
                  <a:pt x="11261" y="8979"/>
                </a:cubicBezTo>
                <a:cubicBezTo>
                  <a:pt x="11261" y="8928"/>
                  <a:pt x="11262" y="8909"/>
                  <a:pt x="11286" y="8880"/>
                </a:cubicBezTo>
              </a:path>
              <a:path w="5979" h="1117">
                <a:moveTo>
                  <a:pt x="11633" y="8310"/>
                </a:moveTo>
                <a:cubicBezTo>
                  <a:pt x="11633" y="8406"/>
                  <a:pt x="11649" y="8488"/>
                  <a:pt x="11658" y="8582"/>
                </a:cubicBezTo>
                <a:cubicBezTo>
                  <a:pt x="11671" y="8713"/>
                  <a:pt x="11705" y="8788"/>
                  <a:pt x="11757" y="8905"/>
                </a:cubicBezTo>
                <a:cubicBezTo>
                  <a:pt x="11793" y="8986"/>
                  <a:pt x="11782" y="9054"/>
                  <a:pt x="11832" y="9128"/>
                </a:cubicBezTo>
              </a:path>
              <a:path w="5979" h="1117">
                <a:moveTo>
                  <a:pt x="11609" y="8756"/>
                </a:moveTo>
                <a:cubicBezTo>
                  <a:pt x="11728" y="8756"/>
                  <a:pt x="11927" y="8717"/>
                  <a:pt x="12030" y="8781"/>
                </a:cubicBezTo>
                <a:cubicBezTo>
                  <a:pt x="12075" y="8809"/>
                  <a:pt x="12055" y="8885"/>
                  <a:pt x="12055" y="8930"/>
                </a:cubicBezTo>
                <a:cubicBezTo>
                  <a:pt x="12055" y="8988"/>
                  <a:pt x="12055" y="9045"/>
                  <a:pt x="12055" y="9103"/>
                </a:cubicBezTo>
                <a:cubicBezTo>
                  <a:pt x="12088" y="9049"/>
                  <a:pt x="12080" y="8998"/>
                  <a:pt x="12080" y="8930"/>
                </a:cubicBezTo>
                <a:cubicBezTo>
                  <a:pt x="12080" y="8872"/>
                  <a:pt x="12078" y="8806"/>
                  <a:pt x="12105" y="8756"/>
                </a:cubicBezTo>
                <a:cubicBezTo>
                  <a:pt x="12144" y="8697"/>
                  <a:pt x="12148" y="8685"/>
                  <a:pt x="12179" y="8657"/>
                </a:cubicBezTo>
              </a:path>
              <a:path w="5979" h="1117">
                <a:moveTo>
                  <a:pt x="12229" y="8855"/>
                </a:moveTo>
                <a:cubicBezTo>
                  <a:pt x="12280" y="8883"/>
                  <a:pt x="12358" y="8934"/>
                  <a:pt x="12427" y="8905"/>
                </a:cubicBezTo>
                <a:cubicBezTo>
                  <a:pt x="12458" y="8892"/>
                  <a:pt x="12535" y="8841"/>
                  <a:pt x="12551" y="8806"/>
                </a:cubicBezTo>
                <a:cubicBezTo>
                  <a:pt x="12551" y="8798"/>
                  <a:pt x="12551" y="8789"/>
                  <a:pt x="12551" y="8781"/>
                </a:cubicBezTo>
                <a:cubicBezTo>
                  <a:pt x="12501" y="8741"/>
                  <a:pt x="12447" y="8712"/>
                  <a:pt x="12378" y="8731"/>
                </a:cubicBezTo>
                <a:cubicBezTo>
                  <a:pt x="12309" y="8750"/>
                  <a:pt x="12261" y="8843"/>
                  <a:pt x="12254" y="8905"/>
                </a:cubicBezTo>
                <a:cubicBezTo>
                  <a:pt x="12246" y="8982"/>
                  <a:pt x="12296" y="9081"/>
                  <a:pt x="12353" y="9128"/>
                </a:cubicBezTo>
                <a:cubicBezTo>
                  <a:pt x="12403" y="9169"/>
                  <a:pt x="12445" y="9189"/>
                  <a:pt x="12502" y="9203"/>
                </a:cubicBezTo>
              </a:path>
              <a:path w="5979" h="1117">
                <a:moveTo>
                  <a:pt x="12700" y="8359"/>
                </a:moveTo>
                <a:cubicBezTo>
                  <a:pt x="12673" y="8494"/>
                  <a:pt x="12669" y="8595"/>
                  <a:pt x="12700" y="8731"/>
                </a:cubicBezTo>
                <a:cubicBezTo>
                  <a:pt x="12724" y="8838"/>
                  <a:pt x="12757" y="8952"/>
                  <a:pt x="12799" y="9054"/>
                </a:cubicBezTo>
                <a:cubicBezTo>
                  <a:pt x="12820" y="9104"/>
                  <a:pt x="12824" y="9105"/>
                  <a:pt x="12824" y="9153"/>
                </a:cubicBezTo>
              </a:path>
              <a:path w="5979" h="1117">
                <a:moveTo>
                  <a:pt x="12626" y="8731"/>
                </a:moveTo>
                <a:cubicBezTo>
                  <a:pt x="12705" y="8731"/>
                  <a:pt x="12773" y="8743"/>
                  <a:pt x="12849" y="8756"/>
                </a:cubicBezTo>
                <a:cubicBezTo>
                  <a:pt x="12890" y="8764"/>
                  <a:pt x="12932" y="8773"/>
                  <a:pt x="12973" y="8781"/>
                </a:cubicBezTo>
              </a:path>
              <a:path w="5979" h="1117">
                <a:moveTo>
                  <a:pt x="13146" y="8706"/>
                </a:moveTo>
                <a:cubicBezTo>
                  <a:pt x="13094" y="8758"/>
                  <a:pt x="12988" y="8841"/>
                  <a:pt x="12998" y="8930"/>
                </a:cubicBezTo>
                <a:cubicBezTo>
                  <a:pt x="13005" y="8998"/>
                  <a:pt x="13085" y="9082"/>
                  <a:pt x="13146" y="9103"/>
                </a:cubicBezTo>
                <a:cubicBezTo>
                  <a:pt x="13198" y="9103"/>
                  <a:pt x="13216" y="9102"/>
                  <a:pt x="13246" y="9079"/>
                </a:cubicBezTo>
              </a:path>
              <a:path w="5979" h="1117">
                <a:moveTo>
                  <a:pt x="13370" y="8409"/>
                </a:moveTo>
                <a:cubicBezTo>
                  <a:pt x="13370" y="8488"/>
                  <a:pt x="13348" y="8555"/>
                  <a:pt x="13345" y="8632"/>
                </a:cubicBezTo>
                <a:cubicBezTo>
                  <a:pt x="13341" y="8757"/>
                  <a:pt x="13372" y="8838"/>
                  <a:pt x="13395" y="8954"/>
                </a:cubicBezTo>
                <a:cubicBezTo>
                  <a:pt x="13407" y="9013"/>
                  <a:pt x="13416" y="9046"/>
                  <a:pt x="13444" y="9103"/>
                </a:cubicBezTo>
                <a:cubicBezTo>
                  <a:pt x="13467" y="9096"/>
                  <a:pt x="13499" y="9062"/>
                  <a:pt x="13519" y="9029"/>
                </a:cubicBezTo>
                <a:cubicBezTo>
                  <a:pt x="13564" y="8958"/>
                  <a:pt x="13568" y="8842"/>
                  <a:pt x="13618" y="8781"/>
                </a:cubicBezTo>
                <a:cubicBezTo>
                  <a:pt x="13669" y="8719"/>
                  <a:pt x="13717" y="8735"/>
                  <a:pt x="13767" y="8781"/>
                </a:cubicBezTo>
                <a:cubicBezTo>
                  <a:pt x="13841" y="8850"/>
                  <a:pt x="13879" y="8953"/>
                  <a:pt x="13891" y="9054"/>
                </a:cubicBezTo>
                <a:cubicBezTo>
                  <a:pt x="13891" y="9153"/>
                  <a:pt x="13891" y="9186"/>
                  <a:pt x="13891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0000" y="3616200"/>
            <a:ext cx="884160" cy="258840"/>
          </a:xfrm>
          <a:custGeom>
            <a:avLst/>
            <a:gdLst/>
            <a:ahLst/>
            <a:rect l="l" t="t" r="r" b="b"/>
            <a:pathLst>
              <a:path w="2457" h="720">
                <a:moveTo>
                  <a:pt x="9748" y="10418"/>
                </a:moveTo>
                <a:cubicBezTo>
                  <a:pt x="9769" y="10490"/>
                  <a:pt x="9780" y="10561"/>
                  <a:pt x="9823" y="10616"/>
                </a:cubicBezTo>
                <a:cubicBezTo>
                  <a:pt x="9823" y="10573"/>
                  <a:pt x="9812" y="10530"/>
                  <a:pt x="9798" y="10492"/>
                </a:cubicBezTo>
                <a:cubicBezTo>
                  <a:pt x="9769" y="10410"/>
                  <a:pt x="9761" y="10373"/>
                  <a:pt x="9773" y="10294"/>
                </a:cubicBezTo>
                <a:cubicBezTo>
                  <a:pt x="9786" y="10207"/>
                  <a:pt x="9806" y="10218"/>
                  <a:pt x="9872" y="10195"/>
                </a:cubicBezTo>
                <a:cubicBezTo>
                  <a:pt x="9930" y="10174"/>
                  <a:pt x="10006" y="10152"/>
                  <a:pt x="10071" y="10170"/>
                </a:cubicBezTo>
                <a:cubicBezTo>
                  <a:pt x="10087" y="10178"/>
                  <a:pt x="10104" y="10187"/>
                  <a:pt x="10120" y="10195"/>
                </a:cubicBezTo>
              </a:path>
              <a:path w="2457" h="720">
                <a:moveTo>
                  <a:pt x="10120" y="10492"/>
                </a:moveTo>
                <a:cubicBezTo>
                  <a:pt x="10212" y="10503"/>
                  <a:pt x="10293" y="10527"/>
                  <a:pt x="10368" y="10468"/>
                </a:cubicBezTo>
                <a:cubicBezTo>
                  <a:pt x="10418" y="10428"/>
                  <a:pt x="10418" y="10405"/>
                  <a:pt x="10418" y="10344"/>
                </a:cubicBezTo>
                <a:cubicBezTo>
                  <a:pt x="10418" y="10301"/>
                  <a:pt x="10413" y="10284"/>
                  <a:pt x="10368" y="10269"/>
                </a:cubicBezTo>
                <a:cubicBezTo>
                  <a:pt x="10343" y="10260"/>
                  <a:pt x="10242" y="10302"/>
                  <a:pt x="10220" y="10319"/>
                </a:cubicBezTo>
                <a:cubicBezTo>
                  <a:pt x="10159" y="10365"/>
                  <a:pt x="10123" y="10440"/>
                  <a:pt x="10145" y="10517"/>
                </a:cubicBezTo>
                <a:cubicBezTo>
                  <a:pt x="10159" y="10565"/>
                  <a:pt x="10235" y="10662"/>
                  <a:pt x="10269" y="10691"/>
                </a:cubicBezTo>
                <a:cubicBezTo>
                  <a:pt x="10333" y="10747"/>
                  <a:pt x="10414" y="10740"/>
                  <a:pt x="10492" y="10740"/>
                </a:cubicBezTo>
              </a:path>
              <a:path w="2457" h="720">
                <a:moveTo>
                  <a:pt x="10939" y="10071"/>
                </a:moveTo>
                <a:cubicBezTo>
                  <a:pt x="10859" y="10059"/>
                  <a:pt x="10797" y="10039"/>
                  <a:pt x="10740" y="10120"/>
                </a:cubicBezTo>
                <a:cubicBezTo>
                  <a:pt x="10683" y="10201"/>
                  <a:pt x="10698" y="10302"/>
                  <a:pt x="10716" y="10393"/>
                </a:cubicBezTo>
                <a:cubicBezTo>
                  <a:pt x="10736" y="10492"/>
                  <a:pt x="10786" y="10580"/>
                  <a:pt x="10815" y="10666"/>
                </a:cubicBezTo>
                <a:cubicBezTo>
                  <a:pt x="10837" y="10709"/>
                  <a:pt x="10840" y="10721"/>
                  <a:pt x="10864" y="10740"/>
                </a:cubicBezTo>
              </a:path>
              <a:path w="2457" h="720">
                <a:moveTo>
                  <a:pt x="10641" y="10443"/>
                </a:moveTo>
                <a:cubicBezTo>
                  <a:pt x="10728" y="10451"/>
                  <a:pt x="10824" y="10489"/>
                  <a:pt x="10914" y="10468"/>
                </a:cubicBezTo>
                <a:cubicBezTo>
                  <a:pt x="10931" y="10460"/>
                  <a:pt x="10947" y="10451"/>
                  <a:pt x="10964" y="10443"/>
                </a:cubicBezTo>
              </a:path>
              <a:path w="2457" h="720">
                <a:moveTo>
                  <a:pt x="11162" y="10046"/>
                </a:moveTo>
                <a:cubicBezTo>
                  <a:pt x="11162" y="10199"/>
                  <a:pt x="11170" y="10344"/>
                  <a:pt x="11187" y="10492"/>
                </a:cubicBezTo>
                <a:cubicBezTo>
                  <a:pt x="11195" y="10568"/>
                  <a:pt x="11200" y="10629"/>
                  <a:pt x="11237" y="10691"/>
                </a:cubicBezTo>
              </a:path>
              <a:path w="2457" h="720">
                <a:moveTo>
                  <a:pt x="11435" y="10567"/>
                </a:moveTo>
                <a:cubicBezTo>
                  <a:pt x="11548" y="10521"/>
                  <a:pt x="11516" y="10529"/>
                  <a:pt x="11559" y="10443"/>
                </a:cubicBezTo>
                <a:cubicBezTo>
                  <a:pt x="11578" y="10405"/>
                  <a:pt x="11584" y="10392"/>
                  <a:pt x="11584" y="10344"/>
                </a:cubicBezTo>
                <a:cubicBezTo>
                  <a:pt x="11530" y="10344"/>
                  <a:pt x="11487" y="10340"/>
                  <a:pt x="11435" y="10368"/>
                </a:cubicBezTo>
                <a:cubicBezTo>
                  <a:pt x="11387" y="10393"/>
                  <a:pt x="11364" y="10471"/>
                  <a:pt x="11361" y="10517"/>
                </a:cubicBezTo>
                <a:cubicBezTo>
                  <a:pt x="11355" y="10614"/>
                  <a:pt x="11365" y="10633"/>
                  <a:pt x="11435" y="10691"/>
                </a:cubicBezTo>
                <a:cubicBezTo>
                  <a:pt x="11491" y="10738"/>
                  <a:pt x="11538" y="10756"/>
                  <a:pt x="11609" y="10765"/>
                </a:cubicBezTo>
              </a:path>
              <a:path w="2457" h="720">
                <a:moveTo>
                  <a:pt x="11857" y="10368"/>
                </a:moveTo>
                <a:cubicBezTo>
                  <a:pt x="11769" y="10377"/>
                  <a:pt x="11750" y="10382"/>
                  <a:pt x="11733" y="10468"/>
                </a:cubicBezTo>
                <a:cubicBezTo>
                  <a:pt x="11723" y="10517"/>
                  <a:pt x="11770" y="10632"/>
                  <a:pt x="11807" y="10666"/>
                </a:cubicBezTo>
                <a:cubicBezTo>
                  <a:pt x="11856" y="10712"/>
                  <a:pt x="11943" y="10732"/>
                  <a:pt x="12005" y="10740"/>
                </a:cubicBezTo>
              </a:path>
              <a:path w="2457" h="720">
                <a:moveTo>
                  <a:pt x="12105" y="10046"/>
                </a:moveTo>
                <a:cubicBezTo>
                  <a:pt x="12105" y="10188"/>
                  <a:pt x="12093" y="10330"/>
                  <a:pt x="12129" y="10468"/>
                </a:cubicBezTo>
                <a:cubicBezTo>
                  <a:pt x="12149" y="10545"/>
                  <a:pt x="12169" y="10614"/>
                  <a:pt x="12179" y="10691"/>
                </a:cubicBezTo>
              </a:path>
              <a:path w="2457" h="720">
                <a:moveTo>
                  <a:pt x="11956" y="10344"/>
                </a:moveTo>
                <a:cubicBezTo>
                  <a:pt x="12045" y="10352"/>
                  <a:pt x="12117" y="10369"/>
                  <a:pt x="12204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8000" y="3724200"/>
            <a:ext cx="519120" cy="187560"/>
          </a:xfrm>
          <a:custGeom>
            <a:avLst/>
            <a:gdLst/>
            <a:ahLst/>
            <a:rect l="l" t="t" r="r" b="b"/>
            <a:pathLst>
              <a:path w="1440" h="521">
                <a:moveTo>
                  <a:pt x="12601" y="10393"/>
                </a:moveTo>
                <a:cubicBezTo>
                  <a:pt x="12592" y="10433"/>
                  <a:pt x="12537" y="10572"/>
                  <a:pt x="12551" y="10616"/>
                </a:cubicBezTo>
                <a:cubicBezTo>
                  <a:pt x="12564" y="10658"/>
                  <a:pt x="12658" y="10730"/>
                  <a:pt x="12700" y="10716"/>
                </a:cubicBezTo>
                <a:cubicBezTo>
                  <a:pt x="12715" y="10711"/>
                  <a:pt x="12774" y="10605"/>
                  <a:pt x="12774" y="10592"/>
                </a:cubicBezTo>
                <a:cubicBezTo>
                  <a:pt x="12771" y="10515"/>
                  <a:pt x="12726" y="10424"/>
                  <a:pt x="12675" y="10368"/>
                </a:cubicBezTo>
                <a:cubicBezTo>
                  <a:pt x="12653" y="10346"/>
                  <a:pt x="12648" y="10338"/>
                  <a:pt x="12626" y="10344"/>
                </a:cubicBezTo>
              </a:path>
              <a:path w="1440" h="521">
                <a:moveTo>
                  <a:pt x="12923" y="10592"/>
                </a:moveTo>
                <a:cubicBezTo>
                  <a:pt x="12953" y="10666"/>
                  <a:pt x="12968" y="10686"/>
                  <a:pt x="13022" y="10740"/>
                </a:cubicBezTo>
                <a:cubicBezTo>
                  <a:pt x="13075" y="10793"/>
                  <a:pt x="13094" y="10744"/>
                  <a:pt x="13122" y="10691"/>
                </a:cubicBezTo>
                <a:cubicBezTo>
                  <a:pt x="13159" y="10620"/>
                  <a:pt x="13126" y="10563"/>
                  <a:pt x="13146" y="10492"/>
                </a:cubicBezTo>
                <a:cubicBezTo>
                  <a:pt x="13160" y="10443"/>
                  <a:pt x="13165" y="10428"/>
                  <a:pt x="13196" y="10418"/>
                </a:cubicBezTo>
              </a:path>
              <a:path w="1440" h="521">
                <a:moveTo>
                  <a:pt x="13320" y="10616"/>
                </a:moveTo>
                <a:cubicBezTo>
                  <a:pt x="13423" y="10664"/>
                  <a:pt x="13417" y="10685"/>
                  <a:pt x="13494" y="10641"/>
                </a:cubicBezTo>
                <a:cubicBezTo>
                  <a:pt x="13555" y="10606"/>
                  <a:pt x="13568" y="10585"/>
                  <a:pt x="13568" y="10517"/>
                </a:cubicBezTo>
                <a:cubicBezTo>
                  <a:pt x="13568" y="10473"/>
                  <a:pt x="13571" y="10387"/>
                  <a:pt x="13494" y="10393"/>
                </a:cubicBezTo>
                <a:cubicBezTo>
                  <a:pt x="13449" y="10397"/>
                  <a:pt x="13383" y="10436"/>
                  <a:pt x="13370" y="10492"/>
                </a:cubicBezTo>
                <a:cubicBezTo>
                  <a:pt x="13357" y="10549"/>
                  <a:pt x="13338" y="10638"/>
                  <a:pt x="13370" y="10691"/>
                </a:cubicBezTo>
                <a:cubicBezTo>
                  <a:pt x="13410" y="10757"/>
                  <a:pt x="13465" y="10791"/>
                  <a:pt x="13519" y="10840"/>
                </a:cubicBezTo>
                <a:cubicBezTo>
                  <a:pt x="13527" y="10848"/>
                  <a:pt x="13535" y="10856"/>
                  <a:pt x="13543" y="10864"/>
                </a:cubicBezTo>
              </a:path>
              <a:path w="1440" h="521">
                <a:moveTo>
                  <a:pt x="13742" y="10592"/>
                </a:moveTo>
                <a:cubicBezTo>
                  <a:pt x="13762" y="10648"/>
                  <a:pt x="13788" y="10780"/>
                  <a:pt x="13866" y="10815"/>
                </a:cubicBezTo>
                <a:cubicBezTo>
                  <a:pt x="13874" y="10815"/>
                  <a:pt x="13883" y="10815"/>
                  <a:pt x="13891" y="10815"/>
                </a:cubicBezTo>
                <a:cubicBezTo>
                  <a:pt x="13897" y="10791"/>
                  <a:pt x="13903" y="10737"/>
                  <a:pt x="13915" y="10716"/>
                </a:cubicBezTo>
                <a:cubicBezTo>
                  <a:pt x="13942" y="10667"/>
                  <a:pt x="13941" y="10614"/>
                  <a:pt x="13965" y="10567"/>
                </a:cubicBezTo>
                <a:cubicBezTo>
                  <a:pt x="13973" y="10559"/>
                  <a:pt x="13982" y="10550"/>
                  <a:pt x="13990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5960" y="3616200"/>
            <a:ext cx="1527120" cy="474840"/>
          </a:xfrm>
          <a:custGeom>
            <a:avLst/>
            <a:gdLst/>
            <a:ahLst/>
            <a:rect l="l" t="t" r="r" b="b"/>
            <a:pathLst>
              <a:path w="4243" h="1316">
                <a:moveTo>
                  <a:pt x="14709" y="10269"/>
                </a:moveTo>
                <a:cubicBezTo>
                  <a:pt x="14799" y="10404"/>
                  <a:pt x="14880" y="10537"/>
                  <a:pt x="15007" y="10641"/>
                </a:cubicBezTo>
                <a:cubicBezTo>
                  <a:pt x="15060" y="10684"/>
                  <a:pt x="15169" y="10778"/>
                  <a:pt x="15230" y="10790"/>
                </a:cubicBezTo>
                <a:cubicBezTo>
                  <a:pt x="15255" y="10790"/>
                  <a:pt x="15263" y="10790"/>
                  <a:pt x="15280" y="10790"/>
                </a:cubicBezTo>
              </a:path>
              <a:path w="4243" h="1316">
                <a:moveTo>
                  <a:pt x="15156" y="10195"/>
                </a:moveTo>
                <a:cubicBezTo>
                  <a:pt x="15067" y="10250"/>
                  <a:pt x="14994" y="10307"/>
                  <a:pt x="14932" y="10393"/>
                </a:cubicBezTo>
                <a:cubicBezTo>
                  <a:pt x="14874" y="10473"/>
                  <a:pt x="14782" y="10570"/>
                  <a:pt x="14759" y="10666"/>
                </a:cubicBezTo>
                <a:cubicBezTo>
                  <a:pt x="14749" y="10707"/>
                  <a:pt x="14742" y="10749"/>
                  <a:pt x="14734" y="10790"/>
                </a:cubicBezTo>
              </a:path>
              <a:path w="4243" h="1316">
                <a:moveTo>
                  <a:pt x="15503" y="10840"/>
                </a:moveTo>
                <a:cubicBezTo>
                  <a:pt x="15503" y="10918"/>
                  <a:pt x="15497" y="11084"/>
                  <a:pt x="15528" y="11013"/>
                </a:cubicBezTo>
                <a:cubicBezTo>
                  <a:pt x="15528" y="11005"/>
                  <a:pt x="15528" y="10996"/>
                  <a:pt x="15528" y="10988"/>
                </a:cubicBezTo>
              </a:path>
              <a:path w="4243" h="1316">
                <a:moveTo>
                  <a:pt x="15850" y="10443"/>
                </a:moveTo>
                <a:cubicBezTo>
                  <a:pt x="15873" y="10564"/>
                  <a:pt x="15890" y="10685"/>
                  <a:pt x="15949" y="10790"/>
                </a:cubicBezTo>
                <a:cubicBezTo>
                  <a:pt x="15936" y="10734"/>
                  <a:pt x="15909" y="10680"/>
                  <a:pt x="15900" y="10616"/>
                </a:cubicBezTo>
                <a:cubicBezTo>
                  <a:pt x="15890" y="10546"/>
                  <a:pt x="15861" y="10478"/>
                  <a:pt x="15925" y="10418"/>
                </a:cubicBezTo>
                <a:cubicBezTo>
                  <a:pt x="15992" y="10355"/>
                  <a:pt x="16090" y="10368"/>
                  <a:pt x="16173" y="10368"/>
                </a:cubicBezTo>
                <a:cubicBezTo>
                  <a:pt x="16272" y="10368"/>
                  <a:pt x="16288" y="10368"/>
                  <a:pt x="16346" y="10368"/>
                </a:cubicBezTo>
              </a:path>
              <a:path w="4243" h="1316">
                <a:moveTo>
                  <a:pt x="16446" y="10418"/>
                </a:moveTo>
                <a:cubicBezTo>
                  <a:pt x="16446" y="10514"/>
                  <a:pt x="16441" y="10624"/>
                  <a:pt x="16470" y="10716"/>
                </a:cubicBezTo>
                <a:cubicBezTo>
                  <a:pt x="16487" y="10769"/>
                  <a:pt x="16526" y="10800"/>
                  <a:pt x="16495" y="10815"/>
                </a:cubicBezTo>
              </a:path>
              <a:path w="4243" h="1316">
                <a:moveTo>
                  <a:pt x="16396" y="10120"/>
                </a:moveTo>
                <a:cubicBezTo>
                  <a:pt x="16441" y="10120"/>
                  <a:pt x="16454" y="10116"/>
                  <a:pt x="16470" y="10145"/>
                </a:cubicBezTo>
              </a:path>
              <a:path w="4243" h="1316">
                <a:moveTo>
                  <a:pt x="16793" y="10418"/>
                </a:moveTo>
                <a:cubicBezTo>
                  <a:pt x="16734" y="10490"/>
                  <a:pt x="16595" y="10603"/>
                  <a:pt x="16619" y="10716"/>
                </a:cubicBezTo>
                <a:cubicBezTo>
                  <a:pt x="16641" y="10759"/>
                  <a:pt x="16645" y="10771"/>
                  <a:pt x="16669" y="10790"/>
                </a:cubicBezTo>
              </a:path>
              <a:path w="4243" h="1316">
                <a:moveTo>
                  <a:pt x="16818" y="10815"/>
                </a:moveTo>
                <a:cubicBezTo>
                  <a:pt x="16876" y="10748"/>
                  <a:pt x="16925" y="10663"/>
                  <a:pt x="16917" y="10567"/>
                </a:cubicBezTo>
                <a:cubicBezTo>
                  <a:pt x="16914" y="10534"/>
                  <a:pt x="16885" y="10492"/>
                  <a:pt x="16867" y="10468"/>
                </a:cubicBezTo>
                <a:cubicBezTo>
                  <a:pt x="16852" y="10525"/>
                  <a:pt x="16842" y="10572"/>
                  <a:pt x="16842" y="10641"/>
                </a:cubicBezTo>
                <a:cubicBezTo>
                  <a:pt x="16842" y="10786"/>
                  <a:pt x="16856" y="10920"/>
                  <a:pt x="16867" y="11063"/>
                </a:cubicBezTo>
                <a:cubicBezTo>
                  <a:pt x="16873" y="11141"/>
                  <a:pt x="16889" y="11280"/>
                  <a:pt x="16818" y="11336"/>
                </a:cubicBezTo>
                <a:cubicBezTo>
                  <a:pt x="16775" y="11370"/>
                  <a:pt x="16686" y="11378"/>
                  <a:pt x="16644" y="11336"/>
                </a:cubicBezTo>
                <a:cubicBezTo>
                  <a:pt x="16552" y="11243"/>
                  <a:pt x="16511" y="11132"/>
                  <a:pt x="16495" y="11013"/>
                </a:cubicBezTo>
              </a:path>
              <a:path w="4243" h="1316">
                <a:moveTo>
                  <a:pt x="17041" y="10244"/>
                </a:moveTo>
                <a:cubicBezTo>
                  <a:pt x="17066" y="10416"/>
                  <a:pt x="17089" y="10599"/>
                  <a:pt x="17115" y="10765"/>
                </a:cubicBezTo>
                <a:cubicBezTo>
                  <a:pt x="17123" y="10813"/>
                  <a:pt x="17129" y="10823"/>
                  <a:pt x="17140" y="10864"/>
                </a:cubicBezTo>
                <a:cubicBezTo>
                  <a:pt x="17156" y="10802"/>
                  <a:pt x="17165" y="10766"/>
                  <a:pt x="17165" y="10691"/>
                </a:cubicBezTo>
                <a:cubicBezTo>
                  <a:pt x="17165" y="10610"/>
                  <a:pt x="17184" y="10552"/>
                  <a:pt x="17239" y="10492"/>
                </a:cubicBezTo>
                <a:cubicBezTo>
                  <a:pt x="17278" y="10449"/>
                  <a:pt x="17331" y="10472"/>
                  <a:pt x="17363" y="10517"/>
                </a:cubicBezTo>
                <a:cubicBezTo>
                  <a:pt x="17416" y="10591"/>
                  <a:pt x="17464" y="10665"/>
                  <a:pt x="17512" y="10740"/>
                </a:cubicBezTo>
                <a:cubicBezTo>
                  <a:pt x="17572" y="10834"/>
                  <a:pt x="17602" y="10868"/>
                  <a:pt x="17661" y="10765"/>
                </a:cubicBezTo>
              </a:path>
              <a:path w="4243" h="1316">
                <a:moveTo>
                  <a:pt x="17661" y="10220"/>
                </a:moveTo>
                <a:cubicBezTo>
                  <a:pt x="17708" y="10360"/>
                  <a:pt x="17749" y="10498"/>
                  <a:pt x="17785" y="10641"/>
                </a:cubicBezTo>
                <a:cubicBezTo>
                  <a:pt x="17806" y="10723"/>
                  <a:pt x="17835" y="10781"/>
                  <a:pt x="17835" y="10864"/>
                </a:cubicBezTo>
                <a:cubicBezTo>
                  <a:pt x="17835" y="10840"/>
                  <a:pt x="17835" y="10831"/>
                  <a:pt x="17835" y="10815"/>
                </a:cubicBezTo>
              </a:path>
              <a:path w="4243" h="1316">
                <a:moveTo>
                  <a:pt x="17661" y="10492"/>
                </a:moveTo>
                <a:cubicBezTo>
                  <a:pt x="17784" y="10510"/>
                  <a:pt x="17878" y="10541"/>
                  <a:pt x="17983" y="10517"/>
                </a:cubicBezTo>
              </a:path>
              <a:path w="4243" h="1316">
                <a:moveTo>
                  <a:pt x="18256" y="10046"/>
                </a:moveTo>
                <a:cubicBezTo>
                  <a:pt x="18392" y="10046"/>
                  <a:pt x="18476" y="10077"/>
                  <a:pt x="18604" y="10096"/>
                </a:cubicBezTo>
                <a:cubicBezTo>
                  <a:pt x="18708" y="10112"/>
                  <a:pt x="18798" y="10145"/>
                  <a:pt x="18901" y="10170"/>
                </a:cubicBezTo>
                <a:cubicBezTo>
                  <a:pt x="18929" y="10170"/>
                  <a:pt x="18940" y="10172"/>
                  <a:pt x="18951" y="10195"/>
                </a:cubicBezTo>
                <a:cubicBezTo>
                  <a:pt x="18936" y="10271"/>
                  <a:pt x="18894" y="10339"/>
                  <a:pt x="18876" y="10418"/>
                </a:cubicBezTo>
                <a:cubicBezTo>
                  <a:pt x="18844" y="10560"/>
                  <a:pt x="18814" y="10744"/>
                  <a:pt x="18827" y="10889"/>
                </a:cubicBezTo>
                <a:cubicBezTo>
                  <a:pt x="18835" y="10930"/>
                  <a:pt x="18844" y="10972"/>
                  <a:pt x="18852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2200" y="4125960"/>
            <a:ext cx="1679760" cy="322200"/>
          </a:xfrm>
          <a:custGeom>
            <a:avLst/>
            <a:gdLst/>
            <a:ahLst/>
            <a:rect l="l" t="t" r="r" b="b"/>
            <a:pathLst>
              <a:path w="4664" h="894">
                <a:moveTo>
                  <a:pt x="9897" y="11683"/>
                </a:moveTo>
                <a:cubicBezTo>
                  <a:pt x="9919" y="11748"/>
                  <a:pt x="9963" y="11816"/>
                  <a:pt x="9996" y="11881"/>
                </a:cubicBezTo>
                <a:cubicBezTo>
                  <a:pt x="10038" y="11964"/>
                  <a:pt x="10069" y="12029"/>
                  <a:pt x="10120" y="12105"/>
                </a:cubicBezTo>
                <a:cubicBezTo>
                  <a:pt x="10133" y="12125"/>
                  <a:pt x="10181" y="12220"/>
                  <a:pt x="10195" y="12229"/>
                </a:cubicBezTo>
                <a:cubicBezTo>
                  <a:pt x="10203" y="12229"/>
                  <a:pt x="10212" y="12229"/>
                  <a:pt x="10220" y="12229"/>
                </a:cubicBezTo>
                <a:cubicBezTo>
                  <a:pt x="10220" y="12061"/>
                  <a:pt x="10218" y="11894"/>
                  <a:pt x="10244" y="11733"/>
                </a:cubicBezTo>
                <a:cubicBezTo>
                  <a:pt x="10251" y="11692"/>
                  <a:pt x="10255" y="11608"/>
                  <a:pt x="10294" y="11584"/>
                </a:cubicBezTo>
                <a:cubicBezTo>
                  <a:pt x="10329" y="11562"/>
                  <a:pt x="10307" y="11559"/>
                  <a:pt x="10344" y="11584"/>
                </a:cubicBezTo>
              </a:path>
              <a:path w="4664" h="894">
                <a:moveTo>
                  <a:pt x="10393" y="11931"/>
                </a:moveTo>
                <a:cubicBezTo>
                  <a:pt x="10472" y="11946"/>
                  <a:pt x="10545" y="11974"/>
                  <a:pt x="10616" y="11931"/>
                </a:cubicBezTo>
                <a:cubicBezTo>
                  <a:pt x="10671" y="11898"/>
                  <a:pt x="10666" y="11836"/>
                  <a:pt x="10666" y="11782"/>
                </a:cubicBezTo>
                <a:cubicBezTo>
                  <a:pt x="10666" y="11733"/>
                  <a:pt x="10670" y="11683"/>
                  <a:pt x="10616" y="11658"/>
                </a:cubicBezTo>
                <a:cubicBezTo>
                  <a:pt x="10557" y="11631"/>
                  <a:pt x="10476" y="11664"/>
                  <a:pt x="10443" y="11708"/>
                </a:cubicBezTo>
                <a:cubicBezTo>
                  <a:pt x="10402" y="11763"/>
                  <a:pt x="10418" y="11841"/>
                  <a:pt x="10418" y="11906"/>
                </a:cubicBezTo>
                <a:cubicBezTo>
                  <a:pt x="10418" y="11981"/>
                  <a:pt x="10456" y="12019"/>
                  <a:pt x="10492" y="12080"/>
                </a:cubicBezTo>
                <a:cubicBezTo>
                  <a:pt x="10523" y="12132"/>
                  <a:pt x="10578" y="12212"/>
                  <a:pt x="10641" y="12229"/>
                </a:cubicBezTo>
                <a:cubicBezTo>
                  <a:pt x="10683" y="12229"/>
                  <a:pt x="10691" y="12229"/>
                  <a:pt x="10716" y="12229"/>
                </a:cubicBezTo>
              </a:path>
              <a:path w="4664" h="894">
                <a:moveTo>
                  <a:pt x="10840" y="11807"/>
                </a:moveTo>
                <a:cubicBezTo>
                  <a:pt x="10840" y="11865"/>
                  <a:pt x="10852" y="11902"/>
                  <a:pt x="10864" y="11956"/>
                </a:cubicBezTo>
                <a:cubicBezTo>
                  <a:pt x="10876" y="12011"/>
                  <a:pt x="10883" y="12080"/>
                  <a:pt x="10914" y="12129"/>
                </a:cubicBezTo>
                <a:cubicBezTo>
                  <a:pt x="10933" y="12160"/>
                  <a:pt x="10942" y="12174"/>
                  <a:pt x="10964" y="12204"/>
                </a:cubicBezTo>
                <a:cubicBezTo>
                  <a:pt x="10964" y="12144"/>
                  <a:pt x="10948" y="12116"/>
                  <a:pt x="10939" y="12055"/>
                </a:cubicBezTo>
                <a:cubicBezTo>
                  <a:pt x="10921" y="11938"/>
                  <a:pt x="10946" y="11817"/>
                  <a:pt x="10964" y="11708"/>
                </a:cubicBezTo>
                <a:cubicBezTo>
                  <a:pt x="10979" y="11621"/>
                  <a:pt x="10995" y="11588"/>
                  <a:pt x="11088" y="11559"/>
                </a:cubicBezTo>
                <a:cubicBezTo>
                  <a:pt x="11136" y="11544"/>
                  <a:pt x="11211" y="11537"/>
                  <a:pt x="11261" y="11534"/>
                </a:cubicBezTo>
                <a:cubicBezTo>
                  <a:pt x="11303" y="11534"/>
                  <a:pt x="11311" y="11534"/>
                  <a:pt x="11336" y="11534"/>
                </a:cubicBezTo>
              </a:path>
              <a:path w="4664" h="894">
                <a:moveTo>
                  <a:pt x="11435" y="11559"/>
                </a:moveTo>
                <a:cubicBezTo>
                  <a:pt x="11435" y="11705"/>
                  <a:pt x="11441" y="11840"/>
                  <a:pt x="11460" y="11981"/>
                </a:cubicBezTo>
                <a:cubicBezTo>
                  <a:pt x="11469" y="12047"/>
                  <a:pt x="11482" y="12145"/>
                  <a:pt x="11509" y="12204"/>
                </a:cubicBezTo>
                <a:cubicBezTo>
                  <a:pt x="11532" y="12227"/>
                  <a:pt x="11540" y="12231"/>
                  <a:pt x="11534" y="12254"/>
                </a:cubicBezTo>
              </a:path>
              <a:path w="4664" h="894">
                <a:moveTo>
                  <a:pt x="11261" y="11807"/>
                </a:moveTo>
                <a:cubicBezTo>
                  <a:pt x="11299" y="11750"/>
                  <a:pt x="11346" y="11799"/>
                  <a:pt x="11410" y="11807"/>
                </a:cubicBezTo>
                <a:cubicBezTo>
                  <a:pt x="11503" y="11819"/>
                  <a:pt x="11590" y="11847"/>
                  <a:pt x="11683" y="11857"/>
                </a:cubicBezTo>
              </a:path>
              <a:path w="4664" h="894">
                <a:moveTo>
                  <a:pt x="12229" y="11757"/>
                </a:moveTo>
                <a:cubicBezTo>
                  <a:pt x="12176" y="11705"/>
                  <a:pt x="12155" y="11708"/>
                  <a:pt x="12080" y="11708"/>
                </a:cubicBezTo>
                <a:cubicBezTo>
                  <a:pt x="12032" y="11708"/>
                  <a:pt x="12018" y="11704"/>
                  <a:pt x="11981" y="11733"/>
                </a:cubicBezTo>
                <a:cubicBezTo>
                  <a:pt x="12026" y="11778"/>
                  <a:pt x="12059" y="11817"/>
                  <a:pt x="12105" y="11857"/>
                </a:cubicBezTo>
                <a:cubicBezTo>
                  <a:pt x="12177" y="11921"/>
                  <a:pt x="12249" y="12002"/>
                  <a:pt x="12303" y="12080"/>
                </a:cubicBezTo>
                <a:cubicBezTo>
                  <a:pt x="12337" y="12129"/>
                  <a:pt x="12328" y="12172"/>
                  <a:pt x="12328" y="12229"/>
                </a:cubicBezTo>
                <a:cubicBezTo>
                  <a:pt x="12275" y="12229"/>
                  <a:pt x="12248" y="12228"/>
                  <a:pt x="12204" y="12204"/>
                </a:cubicBezTo>
                <a:cubicBezTo>
                  <a:pt x="12163" y="12182"/>
                  <a:pt x="12102" y="12178"/>
                  <a:pt x="12080" y="12129"/>
                </a:cubicBezTo>
                <a:cubicBezTo>
                  <a:pt x="12080" y="12121"/>
                  <a:pt x="12080" y="12113"/>
                  <a:pt x="12080" y="12105"/>
                </a:cubicBezTo>
              </a:path>
              <a:path w="4664" h="894">
                <a:moveTo>
                  <a:pt x="12452" y="11509"/>
                </a:moveTo>
                <a:cubicBezTo>
                  <a:pt x="12458" y="11670"/>
                  <a:pt x="12485" y="11802"/>
                  <a:pt x="12502" y="11956"/>
                </a:cubicBezTo>
                <a:cubicBezTo>
                  <a:pt x="12512" y="12045"/>
                  <a:pt x="12532" y="12120"/>
                  <a:pt x="12551" y="12204"/>
                </a:cubicBezTo>
                <a:cubicBezTo>
                  <a:pt x="12551" y="12212"/>
                  <a:pt x="12551" y="12221"/>
                  <a:pt x="12551" y="12229"/>
                </a:cubicBezTo>
                <a:cubicBezTo>
                  <a:pt x="12587" y="12169"/>
                  <a:pt x="12564" y="12124"/>
                  <a:pt x="12576" y="12055"/>
                </a:cubicBezTo>
                <a:cubicBezTo>
                  <a:pt x="12579" y="12036"/>
                  <a:pt x="12628" y="11875"/>
                  <a:pt x="12650" y="11857"/>
                </a:cubicBezTo>
                <a:cubicBezTo>
                  <a:pt x="12678" y="11857"/>
                  <a:pt x="12689" y="11855"/>
                  <a:pt x="12700" y="11832"/>
                </a:cubicBezTo>
                <a:cubicBezTo>
                  <a:pt x="12730" y="11871"/>
                  <a:pt x="12749" y="11908"/>
                  <a:pt x="12774" y="11956"/>
                </a:cubicBezTo>
                <a:cubicBezTo>
                  <a:pt x="12810" y="12025"/>
                  <a:pt x="12819" y="12086"/>
                  <a:pt x="12849" y="12154"/>
                </a:cubicBezTo>
                <a:cubicBezTo>
                  <a:pt x="12867" y="12194"/>
                  <a:pt x="12879" y="12293"/>
                  <a:pt x="12898" y="12254"/>
                </a:cubicBezTo>
                <a:cubicBezTo>
                  <a:pt x="12898" y="12226"/>
                  <a:pt x="12900" y="12215"/>
                  <a:pt x="12923" y="12204"/>
                </a:cubicBezTo>
              </a:path>
              <a:path w="4664" h="894">
                <a:moveTo>
                  <a:pt x="13022" y="11981"/>
                </a:moveTo>
                <a:cubicBezTo>
                  <a:pt x="13037" y="12067"/>
                  <a:pt x="13049" y="12135"/>
                  <a:pt x="13072" y="12204"/>
                </a:cubicBezTo>
                <a:cubicBezTo>
                  <a:pt x="13072" y="12229"/>
                  <a:pt x="13072" y="12237"/>
                  <a:pt x="13097" y="12229"/>
                </a:cubicBezTo>
                <a:cubicBezTo>
                  <a:pt x="13105" y="12197"/>
                  <a:pt x="13136" y="12167"/>
                  <a:pt x="13122" y="12129"/>
                </a:cubicBezTo>
                <a:cubicBezTo>
                  <a:pt x="13099" y="12065"/>
                  <a:pt x="13097" y="12024"/>
                  <a:pt x="13097" y="11956"/>
                </a:cubicBezTo>
                <a:cubicBezTo>
                  <a:pt x="13097" y="11903"/>
                  <a:pt x="13083" y="11850"/>
                  <a:pt x="13122" y="11832"/>
                </a:cubicBezTo>
                <a:cubicBezTo>
                  <a:pt x="13179" y="11805"/>
                  <a:pt x="13208" y="11807"/>
                  <a:pt x="13271" y="11807"/>
                </a:cubicBezTo>
                <a:cubicBezTo>
                  <a:pt x="13287" y="11807"/>
                  <a:pt x="13304" y="11807"/>
                  <a:pt x="13320" y="11807"/>
                </a:cubicBezTo>
              </a:path>
              <a:path w="4664" h="894">
                <a:moveTo>
                  <a:pt x="13444" y="11981"/>
                </a:moveTo>
                <a:cubicBezTo>
                  <a:pt x="13461" y="12058"/>
                  <a:pt x="13474" y="12138"/>
                  <a:pt x="13494" y="12204"/>
                </a:cubicBezTo>
                <a:cubicBezTo>
                  <a:pt x="13508" y="12251"/>
                  <a:pt x="13503" y="12251"/>
                  <a:pt x="13469" y="12229"/>
                </a:cubicBezTo>
              </a:path>
              <a:path w="4664" h="894">
                <a:moveTo>
                  <a:pt x="13469" y="11609"/>
                </a:moveTo>
                <a:cubicBezTo>
                  <a:pt x="13510" y="11589"/>
                  <a:pt x="13526" y="11570"/>
                  <a:pt x="13519" y="11609"/>
                </a:cubicBezTo>
              </a:path>
              <a:path w="4664" h="894">
                <a:moveTo>
                  <a:pt x="13618" y="12030"/>
                </a:moveTo>
                <a:cubicBezTo>
                  <a:pt x="13649" y="12180"/>
                  <a:pt x="13618" y="12154"/>
                  <a:pt x="13692" y="12229"/>
                </a:cubicBezTo>
                <a:cubicBezTo>
                  <a:pt x="13734" y="12215"/>
                  <a:pt x="13739" y="12159"/>
                  <a:pt x="13742" y="12105"/>
                </a:cubicBezTo>
                <a:cubicBezTo>
                  <a:pt x="13746" y="12037"/>
                  <a:pt x="13738" y="11917"/>
                  <a:pt x="13767" y="11857"/>
                </a:cubicBezTo>
                <a:cubicBezTo>
                  <a:pt x="13789" y="11834"/>
                  <a:pt x="13797" y="11829"/>
                  <a:pt x="13791" y="11807"/>
                </a:cubicBezTo>
                <a:cubicBezTo>
                  <a:pt x="13822" y="11817"/>
                  <a:pt x="13825" y="11862"/>
                  <a:pt x="13841" y="11906"/>
                </a:cubicBezTo>
                <a:cubicBezTo>
                  <a:pt x="13875" y="12000"/>
                  <a:pt x="13912" y="12050"/>
                  <a:pt x="13965" y="12129"/>
                </a:cubicBezTo>
                <a:cubicBezTo>
                  <a:pt x="13974" y="12142"/>
                  <a:pt x="14068" y="12245"/>
                  <a:pt x="14089" y="12229"/>
                </a:cubicBezTo>
                <a:cubicBezTo>
                  <a:pt x="14097" y="12212"/>
                  <a:pt x="14106" y="12196"/>
                  <a:pt x="14114" y="12179"/>
                </a:cubicBezTo>
              </a:path>
              <a:path w="4664" h="894">
                <a:moveTo>
                  <a:pt x="14213" y="11485"/>
                </a:moveTo>
                <a:cubicBezTo>
                  <a:pt x="14213" y="11435"/>
                  <a:pt x="14213" y="11534"/>
                  <a:pt x="14213" y="11584"/>
                </a:cubicBezTo>
                <a:cubicBezTo>
                  <a:pt x="14213" y="11676"/>
                  <a:pt x="14175" y="11798"/>
                  <a:pt x="14139" y="11881"/>
                </a:cubicBezTo>
                <a:cubicBezTo>
                  <a:pt x="14117" y="11931"/>
                  <a:pt x="14104" y="11985"/>
                  <a:pt x="14089" y="12030"/>
                </a:cubicBezTo>
                <a:cubicBezTo>
                  <a:pt x="14087" y="12036"/>
                  <a:pt x="14089" y="12123"/>
                  <a:pt x="14089" y="12055"/>
                </a:cubicBezTo>
              </a:path>
              <a:path w="4664" h="894">
                <a:moveTo>
                  <a:pt x="14288" y="11683"/>
                </a:moveTo>
                <a:cubicBezTo>
                  <a:pt x="14277" y="11717"/>
                  <a:pt x="14253" y="11713"/>
                  <a:pt x="14238" y="11757"/>
                </a:cubicBezTo>
                <a:cubicBezTo>
                  <a:pt x="14222" y="11804"/>
                  <a:pt x="14244" y="11867"/>
                  <a:pt x="14263" y="11906"/>
                </a:cubicBezTo>
                <a:cubicBezTo>
                  <a:pt x="14305" y="11996"/>
                  <a:pt x="14352" y="12101"/>
                  <a:pt x="14412" y="12179"/>
                </a:cubicBezTo>
                <a:cubicBezTo>
                  <a:pt x="14482" y="12250"/>
                  <a:pt x="14516" y="12290"/>
                  <a:pt x="14560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84880" y="4143240"/>
            <a:ext cx="571320" cy="411120"/>
          </a:xfrm>
          <a:custGeom>
            <a:avLst/>
            <a:gdLst/>
            <a:ahLst/>
            <a:rect l="l" t="t" r="r" b="b"/>
            <a:pathLst>
              <a:path w="1589" h="1142">
                <a:moveTo>
                  <a:pt x="15007" y="12229"/>
                </a:moveTo>
                <a:cubicBezTo>
                  <a:pt x="15001" y="12355"/>
                  <a:pt x="14966" y="12455"/>
                  <a:pt x="14957" y="12576"/>
                </a:cubicBezTo>
                <a:cubicBezTo>
                  <a:pt x="14955" y="12600"/>
                  <a:pt x="14957" y="12626"/>
                  <a:pt x="14957" y="12650"/>
                </a:cubicBezTo>
              </a:path>
              <a:path w="1589" h="1142">
                <a:moveTo>
                  <a:pt x="15379" y="11509"/>
                </a:moveTo>
                <a:cubicBezTo>
                  <a:pt x="15379" y="11591"/>
                  <a:pt x="15363" y="11654"/>
                  <a:pt x="15354" y="11733"/>
                </a:cubicBezTo>
                <a:cubicBezTo>
                  <a:pt x="15342" y="11839"/>
                  <a:pt x="15333" y="11950"/>
                  <a:pt x="15329" y="12055"/>
                </a:cubicBezTo>
                <a:cubicBezTo>
                  <a:pt x="15327" y="12118"/>
                  <a:pt x="15334" y="12219"/>
                  <a:pt x="15354" y="12278"/>
                </a:cubicBezTo>
                <a:cubicBezTo>
                  <a:pt x="15374" y="12319"/>
                  <a:pt x="15383" y="12325"/>
                  <a:pt x="15379" y="12353"/>
                </a:cubicBezTo>
              </a:path>
              <a:path w="1589" h="1142">
                <a:moveTo>
                  <a:pt x="15577" y="12204"/>
                </a:moveTo>
                <a:cubicBezTo>
                  <a:pt x="15678" y="12186"/>
                  <a:pt x="15734" y="12196"/>
                  <a:pt x="15801" y="12129"/>
                </a:cubicBezTo>
                <a:cubicBezTo>
                  <a:pt x="15837" y="12093"/>
                  <a:pt x="15833" y="12066"/>
                  <a:pt x="15801" y="12030"/>
                </a:cubicBezTo>
                <a:cubicBezTo>
                  <a:pt x="15779" y="12005"/>
                  <a:pt x="15741" y="11959"/>
                  <a:pt x="15701" y="11981"/>
                </a:cubicBezTo>
                <a:cubicBezTo>
                  <a:pt x="15648" y="12010"/>
                  <a:pt x="15608" y="12053"/>
                  <a:pt x="15602" y="12105"/>
                </a:cubicBezTo>
                <a:cubicBezTo>
                  <a:pt x="15589" y="12218"/>
                  <a:pt x="15603" y="12243"/>
                  <a:pt x="15677" y="12328"/>
                </a:cubicBezTo>
                <a:cubicBezTo>
                  <a:pt x="15727" y="12385"/>
                  <a:pt x="15769" y="12388"/>
                  <a:pt x="15825" y="12353"/>
                </a:cubicBezTo>
              </a:path>
              <a:path w="1589" h="1142">
                <a:moveTo>
                  <a:pt x="16049" y="11708"/>
                </a:moveTo>
                <a:cubicBezTo>
                  <a:pt x="16026" y="11685"/>
                  <a:pt x="16022" y="11677"/>
                  <a:pt x="15999" y="11683"/>
                </a:cubicBezTo>
                <a:cubicBezTo>
                  <a:pt x="15989" y="11761"/>
                  <a:pt x="15936" y="11824"/>
                  <a:pt x="15949" y="11906"/>
                </a:cubicBezTo>
                <a:cubicBezTo>
                  <a:pt x="15968" y="12032"/>
                  <a:pt x="15995" y="12162"/>
                  <a:pt x="16049" y="12278"/>
                </a:cubicBezTo>
                <a:cubicBezTo>
                  <a:pt x="16071" y="12326"/>
                  <a:pt x="16070" y="12340"/>
                  <a:pt x="16098" y="12378"/>
                </a:cubicBezTo>
              </a:path>
              <a:path w="1589" h="1142">
                <a:moveTo>
                  <a:pt x="15949" y="12129"/>
                </a:moveTo>
                <a:cubicBezTo>
                  <a:pt x="15989" y="12071"/>
                  <a:pt x="16049" y="12144"/>
                  <a:pt x="16123" y="12129"/>
                </a:cubicBezTo>
                <a:cubicBezTo>
                  <a:pt x="16140" y="12121"/>
                  <a:pt x="16156" y="12113"/>
                  <a:pt x="16173" y="12105"/>
                </a:cubicBezTo>
              </a:path>
              <a:path w="1589" h="1142">
                <a:moveTo>
                  <a:pt x="16396" y="11857"/>
                </a:moveTo>
                <a:cubicBezTo>
                  <a:pt x="16427" y="11867"/>
                  <a:pt x="16449" y="11987"/>
                  <a:pt x="16446" y="12030"/>
                </a:cubicBezTo>
                <a:cubicBezTo>
                  <a:pt x="16438" y="12133"/>
                  <a:pt x="16454" y="12200"/>
                  <a:pt x="16470" y="12303"/>
                </a:cubicBezTo>
                <a:cubicBezTo>
                  <a:pt x="16470" y="12320"/>
                  <a:pt x="16470" y="12336"/>
                  <a:pt x="16470" y="12353"/>
                </a:cubicBezTo>
              </a:path>
              <a:path w="1589" h="1142">
                <a:moveTo>
                  <a:pt x="16321" y="12105"/>
                </a:moveTo>
                <a:cubicBezTo>
                  <a:pt x="16400" y="12113"/>
                  <a:pt x="16468" y="12144"/>
                  <a:pt x="16545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9120" y="422424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17239" y="11733"/>
                </a:moveTo>
                <a:cubicBezTo>
                  <a:pt x="17102" y="11752"/>
                  <a:pt x="16988" y="11717"/>
                  <a:pt x="16942" y="11857"/>
                </a:cubicBezTo>
                <a:cubicBezTo>
                  <a:pt x="16930" y="11894"/>
                  <a:pt x="16982" y="11966"/>
                  <a:pt x="17016" y="11981"/>
                </a:cubicBezTo>
                <a:cubicBezTo>
                  <a:pt x="17048" y="11995"/>
                  <a:pt x="17111" y="12013"/>
                  <a:pt x="17140" y="11981"/>
                </a:cubicBezTo>
                <a:cubicBezTo>
                  <a:pt x="17184" y="11932"/>
                  <a:pt x="17202" y="11856"/>
                  <a:pt x="17239" y="11807"/>
                </a:cubicBezTo>
                <a:cubicBezTo>
                  <a:pt x="17239" y="11742"/>
                  <a:pt x="17215" y="11895"/>
                  <a:pt x="17214" y="11906"/>
                </a:cubicBezTo>
                <a:cubicBezTo>
                  <a:pt x="17203" y="12004"/>
                  <a:pt x="17213" y="12136"/>
                  <a:pt x="17239" y="12229"/>
                </a:cubicBezTo>
                <a:cubicBezTo>
                  <a:pt x="17252" y="12276"/>
                  <a:pt x="17266" y="12315"/>
                  <a:pt x="17289" y="12353"/>
                </a:cubicBezTo>
              </a:path>
              <a:path w="670" h="1142">
                <a:moveTo>
                  <a:pt x="17611" y="12427"/>
                </a:moveTo>
                <a:cubicBezTo>
                  <a:pt x="17611" y="12576"/>
                  <a:pt x="17611" y="12725"/>
                  <a:pt x="17611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4197240"/>
            <a:ext cx="1509840" cy="857520"/>
          </a:xfrm>
          <a:custGeom>
            <a:avLst/>
            <a:gdLst/>
            <a:ahLst/>
            <a:rect l="l" t="t" r="r" b="b"/>
            <a:pathLst>
              <a:path w="4193" h="2382">
                <a:moveTo>
                  <a:pt x="18033" y="12204"/>
                </a:moveTo>
                <a:cubicBezTo>
                  <a:pt x="18033" y="12296"/>
                  <a:pt x="18053" y="12327"/>
                  <a:pt x="18083" y="12402"/>
                </a:cubicBezTo>
                <a:cubicBezTo>
                  <a:pt x="18098" y="12440"/>
                  <a:pt x="18088" y="12441"/>
                  <a:pt x="18132" y="12452"/>
                </a:cubicBezTo>
                <a:cubicBezTo>
                  <a:pt x="18132" y="12391"/>
                  <a:pt x="18137" y="12360"/>
                  <a:pt x="18132" y="12303"/>
                </a:cubicBezTo>
                <a:cubicBezTo>
                  <a:pt x="18125" y="12225"/>
                  <a:pt x="18079" y="12107"/>
                  <a:pt x="18107" y="12030"/>
                </a:cubicBezTo>
                <a:cubicBezTo>
                  <a:pt x="18127" y="11975"/>
                  <a:pt x="18187" y="11981"/>
                  <a:pt x="18231" y="11981"/>
                </a:cubicBezTo>
                <a:cubicBezTo>
                  <a:pt x="18306" y="11981"/>
                  <a:pt x="18348" y="11986"/>
                  <a:pt x="18405" y="12005"/>
                </a:cubicBezTo>
              </a:path>
              <a:path w="4193" h="2382">
                <a:moveTo>
                  <a:pt x="18380" y="12353"/>
                </a:moveTo>
                <a:cubicBezTo>
                  <a:pt x="18472" y="12410"/>
                  <a:pt x="18503" y="12446"/>
                  <a:pt x="18604" y="12402"/>
                </a:cubicBezTo>
                <a:cubicBezTo>
                  <a:pt x="18620" y="12394"/>
                  <a:pt x="18637" y="12386"/>
                  <a:pt x="18653" y="12378"/>
                </a:cubicBezTo>
              </a:path>
              <a:path w="4193" h="2382">
                <a:moveTo>
                  <a:pt x="18752" y="12179"/>
                </a:moveTo>
                <a:cubicBezTo>
                  <a:pt x="18637" y="12140"/>
                  <a:pt x="18575" y="12110"/>
                  <a:pt x="18504" y="12229"/>
                </a:cubicBezTo>
                <a:cubicBezTo>
                  <a:pt x="18465" y="12295"/>
                  <a:pt x="18436" y="12364"/>
                  <a:pt x="18504" y="12427"/>
                </a:cubicBezTo>
                <a:cubicBezTo>
                  <a:pt x="18554" y="12452"/>
                  <a:pt x="18571" y="12460"/>
                  <a:pt x="18604" y="12477"/>
                </a:cubicBezTo>
              </a:path>
              <a:path w="4193" h="2382">
                <a:moveTo>
                  <a:pt x="19124" y="11683"/>
                </a:moveTo>
                <a:cubicBezTo>
                  <a:pt x="18936" y="11656"/>
                  <a:pt x="18929" y="11708"/>
                  <a:pt x="18876" y="11906"/>
                </a:cubicBezTo>
                <a:cubicBezTo>
                  <a:pt x="18816" y="12130"/>
                  <a:pt x="18905" y="12306"/>
                  <a:pt x="18976" y="12502"/>
                </a:cubicBezTo>
                <a:cubicBezTo>
                  <a:pt x="18976" y="12510"/>
                  <a:pt x="18976" y="12518"/>
                  <a:pt x="18976" y="12526"/>
                </a:cubicBezTo>
              </a:path>
              <a:path w="4193" h="2382">
                <a:moveTo>
                  <a:pt x="18752" y="12204"/>
                </a:moveTo>
                <a:cubicBezTo>
                  <a:pt x="18933" y="12230"/>
                  <a:pt x="19003" y="12236"/>
                  <a:pt x="19174" y="12179"/>
                </a:cubicBezTo>
              </a:path>
              <a:path w="4193" h="2382">
                <a:moveTo>
                  <a:pt x="19372" y="11807"/>
                </a:moveTo>
                <a:cubicBezTo>
                  <a:pt x="19355" y="11993"/>
                  <a:pt x="19348" y="12167"/>
                  <a:pt x="19348" y="12353"/>
                </a:cubicBezTo>
                <a:cubicBezTo>
                  <a:pt x="19348" y="12428"/>
                  <a:pt x="19347" y="12459"/>
                  <a:pt x="19372" y="12526"/>
                </a:cubicBezTo>
              </a:path>
              <a:path w="4193" h="2382">
                <a:moveTo>
                  <a:pt x="19496" y="12427"/>
                </a:moveTo>
                <a:cubicBezTo>
                  <a:pt x="19556" y="12403"/>
                  <a:pt x="19608" y="12386"/>
                  <a:pt x="19645" y="12328"/>
                </a:cubicBezTo>
                <a:cubicBezTo>
                  <a:pt x="19677" y="12277"/>
                  <a:pt x="19670" y="12237"/>
                  <a:pt x="19670" y="12179"/>
                </a:cubicBezTo>
                <a:cubicBezTo>
                  <a:pt x="19618" y="12179"/>
                  <a:pt x="19537" y="12163"/>
                  <a:pt x="19496" y="12204"/>
                </a:cubicBezTo>
                <a:cubicBezTo>
                  <a:pt x="19437" y="12264"/>
                  <a:pt x="19443" y="12335"/>
                  <a:pt x="19472" y="12402"/>
                </a:cubicBezTo>
                <a:cubicBezTo>
                  <a:pt x="19502" y="12470"/>
                  <a:pt x="19513" y="12486"/>
                  <a:pt x="19571" y="12526"/>
                </a:cubicBezTo>
              </a:path>
              <a:path w="4193" h="2382">
                <a:moveTo>
                  <a:pt x="19844" y="12229"/>
                </a:moveTo>
                <a:cubicBezTo>
                  <a:pt x="19778" y="12266"/>
                  <a:pt x="19749" y="12276"/>
                  <a:pt x="19745" y="12353"/>
                </a:cubicBezTo>
                <a:cubicBezTo>
                  <a:pt x="19742" y="12406"/>
                  <a:pt x="19815" y="12504"/>
                  <a:pt x="19869" y="12526"/>
                </a:cubicBezTo>
                <a:cubicBezTo>
                  <a:pt x="19885" y="12526"/>
                  <a:pt x="19902" y="12526"/>
                  <a:pt x="19918" y="12526"/>
                </a:cubicBezTo>
              </a:path>
              <a:path w="4193" h="2382">
                <a:moveTo>
                  <a:pt x="20216" y="12005"/>
                </a:moveTo>
                <a:cubicBezTo>
                  <a:pt x="20174" y="12117"/>
                  <a:pt x="20124" y="12253"/>
                  <a:pt x="20141" y="12378"/>
                </a:cubicBezTo>
                <a:cubicBezTo>
                  <a:pt x="20152" y="12459"/>
                  <a:pt x="20165" y="12537"/>
                  <a:pt x="20216" y="12601"/>
                </a:cubicBezTo>
              </a:path>
              <a:path w="4193" h="2382">
                <a:moveTo>
                  <a:pt x="20042" y="12254"/>
                </a:moveTo>
                <a:cubicBezTo>
                  <a:pt x="20179" y="12317"/>
                  <a:pt x="20290" y="12349"/>
                  <a:pt x="20439" y="12378"/>
                </a:cubicBezTo>
              </a:path>
              <a:path w="4193" h="2382">
                <a:moveTo>
                  <a:pt x="20662" y="12402"/>
                </a:moveTo>
                <a:cubicBezTo>
                  <a:pt x="20651" y="12461"/>
                  <a:pt x="20600" y="12582"/>
                  <a:pt x="20687" y="12601"/>
                </a:cubicBezTo>
                <a:cubicBezTo>
                  <a:pt x="20749" y="12615"/>
                  <a:pt x="20761" y="12573"/>
                  <a:pt x="20786" y="12526"/>
                </a:cubicBezTo>
                <a:cubicBezTo>
                  <a:pt x="20817" y="12467"/>
                  <a:pt x="20838" y="12359"/>
                  <a:pt x="20786" y="12303"/>
                </a:cubicBezTo>
                <a:cubicBezTo>
                  <a:pt x="20753" y="12268"/>
                  <a:pt x="20701" y="12237"/>
                  <a:pt x="20687" y="12278"/>
                </a:cubicBezTo>
              </a:path>
              <a:path w="4193" h="2382">
                <a:moveTo>
                  <a:pt x="20910" y="12427"/>
                </a:moveTo>
                <a:cubicBezTo>
                  <a:pt x="20935" y="12462"/>
                  <a:pt x="20976" y="12547"/>
                  <a:pt x="21010" y="12551"/>
                </a:cubicBezTo>
                <a:cubicBezTo>
                  <a:pt x="21058" y="12557"/>
                  <a:pt x="21062" y="12540"/>
                  <a:pt x="21084" y="12502"/>
                </a:cubicBezTo>
                <a:cubicBezTo>
                  <a:pt x="21110" y="12457"/>
                  <a:pt x="21131" y="12379"/>
                  <a:pt x="21134" y="12328"/>
                </a:cubicBezTo>
                <a:cubicBezTo>
                  <a:pt x="21134" y="12287"/>
                  <a:pt x="21134" y="12279"/>
                  <a:pt x="21134" y="12254"/>
                </a:cubicBezTo>
              </a:path>
              <a:path w="4193" h="2382">
                <a:moveTo>
                  <a:pt x="21233" y="12353"/>
                </a:moveTo>
                <a:cubicBezTo>
                  <a:pt x="21288" y="12353"/>
                  <a:pt x="21354" y="12366"/>
                  <a:pt x="21382" y="12303"/>
                </a:cubicBezTo>
                <a:cubicBezTo>
                  <a:pt x="21393" y="12278"/>
                  <a:pt x="21382" y="12232"/>
                  <a:pt x="21382" y="12204"/>
                </a:cubicBezTo>
                <a:cubicBezTo>
                  <a:pt x="21326" y="12204"/>
                  <a:pt x="21276" y="12192"/>
                  <a:pt x="21233" y="12229"/>
                </a:cubicBezTo>
                <a:cubicBezTo>
                  <a:pt x="21153" y="12297"/>
                  <a:pt x="21158" y="12325"/>
                  <a:pt x="21158" y="12427"/>
                </a:cubicBezTo>
                <a:cubicBezTo>
                  <a:pt x="21158" y="12510"/>
                  <a:pt x="21184" y="12561"/>
                  <a:pt x="21233" y="12626"/>
                </a:cubicBezTo>
                <a:cubicBezTo>
                  <a:pt x="21241" y="12634"/>
                  <a:pt x="21250" y="12642"/>
                  <a:pt x="21258" y="12650"/>
                </a:cubicBezTo>
              </a:path>
              <a:path w="4193" h="2382">
                <a:moveTo>
                  <a:pt x="21555" y="12477"/>
                </a:moveTo>
                <a:cubicBezTo>
                  <a:pt x="21545" y="12516"/>
                  <a:pt x="21530" y="12531"/>
                  <a:pt x="21530" y="12576"/>
                </a:cubicBezTo>
                <a:cubicBezTo>
                  <a:pt x="21559" y="12537"/>
                  <a:pt x="21562" y="12497"/>
                  <a:pt x="21580" y="12452"/>
                </a:cubicBezTo>
                <a:cubicBezTo>
                  <a:pt x="21604" y="12391"/>
                  <a:pt x="21647" y="12288"/>
                  <a:pt x="21704" y="12254"/>
                </a:cubicBezTo>
                <a:cubicBezTo>
                  <a:pt x="21732" y="12254"/>
                  <a:pt x="21743" y="12252"/>
                  <a:pt x="21754" y="12229"/>
                </a:cubicBezTo>
              </a:path>
              <a:path w="4193" h="2382">
                <a:moveTo>
                  <a:pt x="21828" y="12278"/>
                </a:moveTo>
                <a:cubicBezTo>
                  <a:pt x="21802" y="12399"/>
                  <a:pt x="21799" y="12439"/>
                  <a:pt x="21853" y="12551"/>
                </a:cubicBezTo>
                <a:cubicBezTo>
                  <a:pt x="21891" y="12630"/>
                  <a:pt x="21889" y="12650"/>
                  <a:pt x="21977" y="12650"/>
                </a:cubicBezTo>
                <a:cubicBezTo>
                  <a:pt x="21985" y="12650"/>
                  <a:pt x="21994" y="12650"/>
                  <a:pt x="22002" y="12650"/>
                </a:cubicBezTo>
              </a:path>
              <a:path w="4193" h="2382">
                <a:moveTo>
                  <a:pt x="22200" y="12402"/>
                </a:moveTo>
                <a:cubicBezTo>
                  <a:pt x="22200" y="12402"/>
                  <a:pt x="22186" y="12546"/>
                  <a:pt x="22175" y="12601"/>
                </a:cubicBezTo>
                <a:cubicBezTo>
                  <a:pt x="22133" y="12814"/>
                  <a:pt x="22089" y="13013"/>
                  <a:pt x="22027" y="13221"/>
                </a:cubicBezTo>
                <a:cubicBezTo>
                  <a:pt x="21968" y="13416"/>
                  <a:pt x="21890" y="13584"/>
                  <a:pt x="21803" y="13767"/>
                </a:cubicBezTo>
                <a:cubicBezTo>
                  <a:pt x="21759" y="13860"/>
                  <a:pt x="21664" y="14006"/>
                  <a:pt x="21555" y="14039"/>
                </a:cubicBezTo>
                <a:cubicBezTo>
                  <a:pt x="21429" y="14077"/>
                  <a:pt x="21292" y="14013"/>
                  <a:pt x="21183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0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27-43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0:10Z</dcterms:created>
  <dc:creator>jnewman</dc:creator>
  <dc:description/>
  <dc:language>en-US</dc:language>
  <cp:lastModifiedBy>abeason</cp:lastModifiedBy>
  <dcterms:modified xsi:type="dcterms:W3CDTF">2009-04-29T17:35:28Z</dcterms:modified>
  <cp:revision>10</cp:revision>
  <dc:subject/>
  <dc:title>Lesson 1.3</dc:title>
</cp:coreProperties>
</file>